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103.xml" ContentType="application/vnd.openxmlformats-officedocument.theme+xml"/>
  <Override PartName="/ppt/theme/theme123.xml" ContentType="application/vnd.openxmlformats-officedocument.theme+xml"/>
  <Override PartName="/ppt/theme/theme78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122.xml" ContentType="application/vnd.openxmlformats-officedocument.theme+xml"/>
  <Override PartName="/ppt/theme/theme77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</p:sldMasterIdLst>
  <p:notesMasterIdLst>
    <p:notesMasterId r:id="rId124"/>
  </p:notesMasterIdLst>
  <p:sldIdLst>
    <p:sldId id="256" r:id="rId125"/>
    <p:sldId id="257" r:id="rId126"/>
    <p:sldId id="258" r:id="rId127"/>
    <p:sldId id="259" r:id="rId128"/>
    <p:sldId id="260" r:id="rId129"/>
    <p:sldId id="261" r:id="rId130"/>
    <p:sldId id="262" r:id="rId131"/>
    <p:sldId id="263" r:id="rId132"/>
    <p:sldId id="264" r:id="rId133"/>
    <p:sldId id="265" r:id="rId134"/>
    <p:sldId id="266" r:id="rId135"/>
    <p:sldId id="267" r:id="rId136"/>
    <p:sldId id="268" r:id="rId137"/>
    <p:sldId id="269" r:id="rId138"/>
    <p:sldId id="270" r:id="rId139"/>
    <p:sldId id="271" r:id="rId140"/>
    <p:sldId id="272" r:id="rId141"/>
    <p:sldId id="273" r:id="rId142"/>
    <p:sldId id="274" r:id="rId143"/>
    <p:sldId id="275" r:id="rId144"/>
    <p:sldId id="276" r:id="rId145"/>
    <p:sldId id="277" r:id="rId146"/>
    <p:sldId id="278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notesMaster" Target="notesMasters/notesMaster1.xml"/><Relationship Id="rId125" Type="http://schemas.openxmlformats.org/officeDocument/2006/relationships/slide" Target="slides/slide1.xml"/><Relationship Id="rId126" Type="http://schemas.openxmlformats.org/officeDocument/2006/relationships/slide" Target="slides/slide2.xml"/><Relationship Id="rId127" Type="http://schemas.openxmlformats.org/officeDocument/2006/relationships/slide" Target="slides/slide3.xml"/><Relationship Id="rId128" Type="http://schemas.openxmlformats.org/officeDocument/2006/relationships/slide" Target="slides/slide4.xml"/><Relationship Id="rId129" Type="http://schemas.openxmlformats.org/officeDocument/2006/relationships/slide" Target="slides/slide5.xml"/><Relationship Id="rId130" Type="http://schemas.openxmlformats.org/officeDocument/2006/relationships/slide" Target="slides/slide6.xml"/><Relationship Id="rId131" Type="http://schemas.openxmlformats.org/officeDocument/2006/relationships/slide" Target="slides/slide7.xml"/><Relationship Id="rId132" Type="http://schemas.openxmlformats.org/officeDocument/2006/relationships/slide" Target="slides/slide8.xml"/><Relationship Id="rId133" Type="http://schemas.openxmlformats.org/officeDocument/2006/relationships/slide" Target="slides/slide9.xml"/><Relationship Id="rId134" Type="http://schemas.openxmlformats.org/officeDocument/2006/relationships/slide" Target="slides/slide10.xml"/><Relationship Id="rId135" Type="http://schemas.openxmlformats.org/officeDocument/2006/relationships/slide" Target="slides/slide11.xml"/><Relationship Id="rId136" Type="http://schemas.openxmlformats.org/officeDocument/2006/relationships/slide" Target="slides/slide12.xml"/><Relationship Id="rId137" Type="http://schemas.openxmlformats.org/officeDocument/2006/relationships/slide" Target="slides/slide13.xml"/><Relationship Id="rId138" Type="http://schemas.openxmlformats.org/officeDocument/2006/relationships/slide" Target="slides/slide14.xml"/><Relationship Id="rId139" Type="http://schemas.openxmlformats.org/officeDocument/2006/relationships/slide" Target="slides/slide15.xml"/><Relationship Id="rId140" Type="http://schemas.openxmlformats.org/officeDocument/2006/relationships/slide" Target="slides/slide16.xml"/><Relationship Id="rId141" Type="http://schemas.openxmlformats.org/officeDocument/2006/relationships/slide" Target="slides/slide17.xml"/><Relationship Id="rId142" Type="http://schemas.openxmlformats.org/officeDocument/2006/relationships/slide" Target="slides/slide18.xml"/><Relationship Id="rId143" Type="http://schemas.openxmlformats.org/officeDocument/2006/relationships/slide" Target="slides/slide19.xml"/><Relationship Id="rId144" Type="http://schemas.openxmlformats.org/officeDocument/2006/relationships/slide" Target="slides/slide20.xml"/><Relationship Id="rId145" Type="http://schemas.openxmlformats.org/officeDocument/2006/relationships/slide" Target="slides/slide21.xml"/><Relationship Id="rId146" Type="http://schemas.openxmlformats.org/officeDocument/2006/relationships/slide" Target="slides/slide22.xml"/><Relationship Id="rId147" Type="http://schemas.openxmlformats.org/officeDocument/2006/relationships/slide" Target="slides/slide23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PlaceHolder 2"/>
          <p:cNvSpPr>
            <a:spLocks noGrp="1"/>
          </p:cNvSpPr>
          <p:nvPr>
            <p:ph type="dt" idx="3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PlaceHolder 5"/>
          <p:cNvSpPr>
            <a:spLocks noGrp="1"/>
          </p:cNvSpPr>
          <p:nvPr>
            <p:ph type="ftr" idx="3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PlaceHolder 6"/>
          <p:cNvSpPr>
            <a:spLocks noGrp="1"/>
          </p:cNvSpPr>
          <p:nvPr>
            <p:ph type="sldNum" idx="3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51A-9111-46F4-BC82-9FE6B8D6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D470-C54A-43AF-91B6-3A2305D07E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952-1584-44F3-A4AB-00B19FAC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016-4C73-420B-B675-5447FF83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BF1C6-62F6-40FA-87DF-A45D2B7A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E9A9574-F7F7-4A65-BCC1-04BF1859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1CDE779-5689-40BE-ABCB-1203E681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E61E161-7921-42DA-A700-ED2619F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34A8F2A-9C24-477D-987A-95C58B5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CB944F7-B1D0-4236-B850-2D339DD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6443E2E-8661-412C-B44D-B1D7435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3BC9B91-C717-4A9B-8674-8CC4D4B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24DD52B-2935-44F4-9FA2-C0EE2DEB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DDA1B84-F4E2-4637-9EF9-D708D535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B1F7678-6983-4696-9EFC-68080550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775C5-75F5-46C7-B0BB-16BCE036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B7B0D26-7FE5-4808-97CF-C97A50C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1F0B9F1-9E89-49DD-86AC-9061C2B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A607B09-8684-4272-AF7D-AC85772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58DA24B-F77C-43DA-891C-3C81711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7FC1FFB-8C46-4C0B-84EB-58F678BE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A7DF831-F1E5-4492-A90E-63C220B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24F513D-601E-4C2C-B4BC-FB7B661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880AF6B-2979-4404-8268-BD762B6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3A7FC0F-9ED8-4FFA-B77B-E72C239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786154F-2C57-46FB-AD89-667CF884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2DD03-84D0-4628-848D-332F066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055AA1C-DE25-46F2-8DBD-F340C082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D00466E-49BE-4F5E-889B-842D165D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588A755-CD43-4DC0-AA1E-E0AF498D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70E1212-327E-41C2-9E11-F46296D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547989B-4E95-41A5-95AA-CADF0B2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BC61D4A-9840-4A29-86B5-3000981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58BDD14-5E93-4734-87D3-DCFD7C1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C85A2B1C-6C25-4632-B5CB-E45363C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803F02A-37CA-4EA4-99FE-AA17859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3895A19F-18A3-4A84-A0FF-BCB34CE6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C0CD4-BD5F-4C2A-9A42-7CFECF4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FB1C78B-431D-4AC5-8972-3CAB1173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E685B20-4964-452C-8AFD-64C2785E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BA0B1C5A-6C7E-4BD9-AA81-B4CC0F4D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0498B13-1E41-447B-BCDA-917E166D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A10EE6D-CD92-4B4C-95E2-700CD2B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C83D75C-1B76-4E5C-BAE1-B3A2EA6F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50C040D-AC9F-463B-BF9D-41999941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5E9800CC-6FDF-488B-B5B2-FADD649E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25A026BE-B168-48EA-A26D-C6F019BC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75B85654-A0DB-4F7F-A7F9-20C4A76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E1ED9-E06B-463D-9B67-07073A55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E86EB59-C3AC-4BCB-A836-D474B6C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48EE28E-DFD2-4571-9E8B-2EDBC6F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143CF2A-98EE-40DE-88B1-B0C28DCA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2522C797-E7A2-4638-AAA1-7E20C4C7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F1F7A45-3D71-49DD-AABE-B1AD13D5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842F1F0-219B-4E58-AB34-F1100151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2C2F71E-CB88-4929-A47B-2992454F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9A19221-F1EE-4074-951A-060FFCED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BB3AD134-2355-4B9C-9FCF-0E02AD9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FD1DD12-35B7-483D-B2A0-84D0564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A81D6-47DF-4668-BC6D-8133365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854FE35-B1D2-4398-87F8-10ED662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3BE44E0-A20D-493F-BE61-897C8C3B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9BF5EFF-33A2-4A92-81C2-72072D6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20DFE5C6-1E6A-4DBB-9D57-95A4FD2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267F99F-5FDC-4B16-984B-82A78B9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A09BB4FF-16EC-4A8E-9ED7-FAFA9A68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71E58B98-C9BF-4347-8FED-5B362FF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109192B-C7BD-4782-8DE5-EB162ED6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237620E-30DD-42B7-BC98-3F317A5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93099D5-CA0A-45F4-85BE-4F2B0D19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C6CA5-4F47-4FBA-B123-E5CC27B7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C566B44-6E6D-4391-8447-45306BC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57D8ADEE-2960-4FFE-BF2F-A55AEA0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67936C0-FC39-4AED-868B-9BDA6922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45E26C0-9C51-483B-A763-409B16C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C14F3D87-97DB-454B-95F4-23D7D30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7F995AB4-3099-4269-806E-9D503C9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7E627F0-D46A-43CB-A0B8-FE50471C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376E9FB-9EF0-4B90-B2C5-B5AAAE92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59567067-2B65-4C64-B7CD-3A4E684D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109A4-D286-4F03-8118-EB2DDA27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91873-770F-44FF-A097-CE7A3E49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702FA7F-B65C-4952-A163-00C81EF2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182AB9C-3285-41DD-816B-A977790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46EFA14C-30B6-4564-8DD6-763D0FAE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76CE983-B60A-4C5D-AB0D-89FFAE5F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20A5447-3752-44F6-B2EA-E5C2BBE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F5056061-A7D2-47DB-B850-5E56A90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ECFA4C0D-F3A5-4164-9D11-7C09B6D7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282F2135-DFFC-412F-BE22-9BB4389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4B02925-984B-405D-ABB4-1F4718FE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34C54-D113-4D7F-8223-C5A4356A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AAD01D6-AF59-4EBC-83DD-DF4C3658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9E9A0D8B-355F-43EF-A3AD-B535ACCB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57DD1F9-B8A3-48A3-A0C5-E3D8E81C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967B1D4-D9D5-421A-ADF6-F05EB155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AA6549E-EAA6-4ECB-9602-C2E9C04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ADB7D01-ADB0-40FE-A6A7-033C7996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698B551D-8093-4FAF-A95B-B4DDC93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AEF21E6-C443-428B-9B4E-023B58F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977693D2-B201-45BD-B179-4E78C36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647A668-20EA-4C38-B6FD-DF2F94E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CF1-E81F-4DB7-9A7E-3F69CD9D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57468-31B9-4228-8C93-E8349EA0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15AF1BD-28B2-44E2-901F-C73C041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FC1A843-4536-418E-9EAD-ABC6E55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23948D5-1FD9-45F5-9C68-CA39F43F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66D5E97-1190-475D-94FE-A0784847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A3083CA-9487-4B53-8BCB-F028CBBB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D140663-A473-489F-BA58-001E99EA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7B50522-3DBD-45F6-BC06-FF83C369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4C03EF2-6FB6-4C42-BB40-D3D937E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9AD1FE8-E882-482D-9251-93CED0F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D8ADA8D-8ADA-478F-86CF-BFBFBC2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F3EE7-2792-44F2-BD21-74EFB7D8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BE8B074-B63D-4087-94E0-6CF09462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1D997CE-1A90-4192-B772-23CCC9B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163CA2C-AF3B-4D06-9D8E-583A260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C52F6F7B-2A4C-429C-91F9-3CC1E6E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77E2F96-45DC-4B13-87E4-C9AEBBA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78BDA931-C411-4356-848E-EBDA28EC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2F4476D6-68EB-4D57-B9E0-3ABC403B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9CE13E48-7EEB-41E5-A0C0-8B491F70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04C16D17-61C0-4EB7-922B-07F31AB4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A1D48F94-9D8E-47FE-88A2-9154D5F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F06ED-0895-4536-A00A-EAE3161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7FB565A0-C758-4592-848A-D42A347D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1F266D76-CBCF-4412-9C16-1D50656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8B9DAC5E-1742-4297-AC83-DDDC88D8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09C13A7E-7D74-486E-8D19-5E348C6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C1EC18DD-213F-4C5F-9A2D-ED4F214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5F6B4EB8-A38A-4EF9-9C8C-2E8149B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7FDDB8E6-E522-4EB5-9C89-1848537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CFCE8011-E31B-4200-959C-1D751712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75320AAB-419D-4545-BF60-E7C95C58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9B6085C5-AE48-45E6-A22E-54F71620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B83B0-7B34-404C-9B1F-5B249A2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881B5595-3960-4CA5-9571-3773B4D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A0C96E13-6AE1-4661-A1CC-2462D81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F072A037-1D0B-4F2C-A100-6F8BACD0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B6F980C2-96F0-44B4-99FD-EA16702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85648C54-5EE1-4205-95BA-2BFA51C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D4D6A406-4D42-431B-8776-1C5225E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D7FB64F1-CEB3-4EE7-97F4-41789B5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4F28F65F-3740-427C-94E4-CFB0E5A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F2C0D398-C9E9-435B-8742-5D378E4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01503888-4B03-4050-ACE0-9CAEE626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3B6FB-515B-4821-85AB-B78EBB7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AF1E1C71-6C44-49D3-A108-BF0956DA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F2835234-6D44-406C-B0B5-F6449A31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8C43325C-FDE3-4298-988F-6EBAD1E8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568B80FD-ABE3-4895-8705-031C383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45336A38-AC21-4C5E-A2CF-B36E778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9B4A9051-44DB-421A-8071-D74E2E3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2CF03D10-E808-4399-B234-22F1E813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868F3EAF-B01A-4644-B5D9-3674EE7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B2FF30DB-36F9-44AA-B783-6332D0C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5D01CC44-946D-42FD-BB73-DA88AA04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81BD0-B548-441B-A08C-164E6BE8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C4756EB3-C58C-458B-9829-2A82B35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42E56672-5A1B-4908-9267-640B8B33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70FF093C-ED1B-4445-8DF5-00051CF1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793273FA-D728-4373-8F71-6A2D2504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C7EA3D1-65B5-4417-8D21-0E87E238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C9113757-E85B-4D26-8BE9-436569C9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6E31CF8-9174-4B9B-AE45-D9D53ED8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136B8376-9DB9-4758-B922-93C77045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47EE7541-C636-41C1-8451-3A444DAB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C46B448C-7714-43E6-A784-9053FF6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6A410-0415-46A1-BDEC-68F3377D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17AD79B-3E53-4583-8D9E-4833885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1F716D5-E900-4EBB-958C-5225C88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641D913-E18E-48C6-87EC-2DD41BBF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18EF0664-8363-4F36-B4EE-A30D472D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4C821E52-CF27-45B8-AF8C-CBBA46EE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0452D7E8-7DAD-4847-80A4-8D76FFCB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C9B517E7-DCA5-45FF-8669-7A94348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956B48B6-7948-45CC-B1DB-4916BBE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1992BCDA-8736-4F45-9C7D-C0BFF34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9E8944D0-1298-4BE1-B25F-BEA23569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7A8D9-0448-4044-B9C5-1A986C48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C50D5F33-2295-4F7E-A034-0233526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54FC241C-7FD7-46B1-A9D4-63B66282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40368933-E382-4C1B-B8D0-5426B272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9F5F8CAC-50A1-42C2-B6C6-DA52618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37ACD5ED-BAF6-4BC5-8568-5C7B829C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2979DFC2-A422-43F6-B0BD-26A964DE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8C9AD37B-2E73-4102-904C-38BDB0E1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858A109C-C66C-4AC7-9A15-61B8D62C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DA559152-EBA4-4804-8F2A-29A01305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E3A6754C-7E45-4481-B144-9B857D0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6E6E4-5CFC-45B6-94AE-D534DF0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AE32D270-F570-4D8B-847B-9E2AAA5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4FABCDA2-E95C-4F7F-BE4F-7C841398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D611EE9B-2EE8-4704-9BB8-BEB23FE8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56A11AB9-D862-46D8-9173-5610549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4087813A-CB5A-4D8B-A54B-B28A8694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255A6D09-62E3-43F3-9F83-F313D11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FEF9AC78-A1B8-4185-A531-87E05410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48AB7BF6-C34D-46DE-A6AA-6B95C14F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2A09C9D8-0169-4354-8485-EE6866FA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9B747BED-E984-4FE5-A188-BF57D59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E68B9-660A-4D84-9369-797BDBDD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C51891B0-CCD2-4F9B-968A-BB3A55AE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A4C22B9C-B9C3-46A2-8528-A3D5BC1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D409F8A0-C4D4-46A5-BF52-769191F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4F3FA716-03E4-470C-8D8F-4CBD3CD2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4296414E-0F02-444E-B131-A9E4EBB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39CA59E8-D837-4743-A92A-9585B3AF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832986F3-ECA1-4C37-878F-96E7150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368156FA-FE4E-4500-900C-5A92FBEB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613C9287-548E-41CF-871B-45FC30C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5ADDE1E4-E85B-4382-BA62-A2877EFB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DC8-4961-4599-AFBB-3EE9716D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3C639-1ADA-4022-BD6D-BE2C707A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4F71CED9-52AF-40BF-8879-89C809AD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75B94B-BEE2-4307-A01F-A3A2345E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89D84ED2-DE37-4574-BCB3-9211328A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72A5A45E-B452-4380-9981-4E6C893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6550E1FE-83FD-4D67-B70C-BC9C89F0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7CE6D4EF-A87E-453B-98E6-2C348CE0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141A9696-12EF-4102-836F-7454159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9D7B3AB1-B8EB-4F8A-90FC-CA549FC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E350E5A8-0F09-4C2B-9B28-C7ADE56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789AF3-030B-43B4-AF16-CA93FCF0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3DEED93E-BB22-4691-A611-90F1A51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632429AF-EBA0-46DE-AA53-21474FDA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961A8345-48CD-467B-8AA1-916C92BE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1DCE6FE5-D387-4557-B1EA-5D7343D2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3B30EB65-50DA-485B-8D98-7D1EB835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29A3D9BF-2C75-4A43-A1F8-EBB8CC01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C97D51B9-3F5F-4381-9419-6BD1DC1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14CA9A9D-95B0-431F-B54B-529261A7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1BA8124-F7DF-4BD4-8067-2ACEFAE5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82DDC4FE-DD46-4819-BE1B-D6F8822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82E738-A060-4B15-9BA1-7C06E291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522874AE-249C-4CC5-90A3-1B33750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CD2A502-7051-4585-9906-1313371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271C6D98-FAB1-492F-BDA0-75582B0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DCEDFAD2-8E3E-4F31-B370-3EB6C36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7CE11E32-1FA5-4F00-A382-979AA986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E47E457D-7635-4A50-B0BD-015D795D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743DC60F-7A53-4DAD-B060-D3AB9466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C0BF3EC-D1A4-4D2E-BD2A-A43CAAEB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3EF5215-0387-4B88-91B5-0219A15D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E88F892-D0CC-4AE1-90FC-629E386A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262266-A095-4C60-B53D-93515846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4FF2715-9F71-4569-BD58-96C2E291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D35FEF5-AF19-41AD-85A6-BDAC755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38EC517-741D-41B8-8387-AB332D54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A4ED6FB-5A03-44D8-8664-B26BC0C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CC574DB-D544-4D95-8680-C86573B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44611195-7665-4ABB-9B1E-354DA9FA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76333B6-61D8-43BD-9CD2-4D04A94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5B46EB7B-C358-44B9-8A2A-1B400BD9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4310911-808F-4779-AA68-C6453A28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B9B08378-A052-468D-93B5-FC0B39DB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A49D80-D1DE-4A44-9D51-6CEA2DE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3797CCC-1BF2-4CE2-A020-F6D03121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AB2E731-6932-483C-9CCD-4C3F79D6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59F86A4-40D4-4BDA-9B46-F3403964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FBA436FA-1C20-4EA5-BC82-0D67806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FAF8187-BD19-45E6-B8BB-EBB7ECAE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DF355AA-CEC7-4447-A26A-87B2211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3DBE136-2FEB-4024-B3B2-4D79F82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A01437A-37D6-40E9-980A-50F196F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296BAAD1-1011-4C2D-AF41-2528AD6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59C4B3B-336F-4F0D-AC54-CE925759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2C5331-0CF8-4543-B898-A337E06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88095E63-E65A-49D1-AA78-F2F12888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6B7B15F-610D-4C14-B7CD-A83CB3E5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C12A424-6FDA-4FD6-AB33-000B7B88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977AA35-D3B5-42EB-B7E3-A20E586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FCE30FA-076C-4D0C-8D41-1FE988CB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B12DC59-92E0-43AD-A875-A6AF4463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01D4318-9B66-4C63-9645-96CC66D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3C40D0C-A2A4-4548-978B-5F548E0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0F824E8-218C-47DC-9D60-F3E6616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6A4A724-8BC1-48F2-9494-5AE3FBE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33E957-2458-4CAA-83E2-5784E10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C1C7B8E-CB7E-4CE9-AE38-AF75843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F348F41-C847-4C9F-BD98-56DA25D7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1618CBB-C12B-4CF5-B096-654DDE40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DBA27A6D-FC1D-4C1A-BE9F-770E2B4F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CAB96405-2553-4AFB-AE47-088915E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D9FE0229-91FF-472B-8083-B4D5EC39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38D46CD8-D037-4FFD-A7A8-3ADDCB4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06683E5C-69AB-41CA-A7C9-FF63479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A7BE910A-EFCA-44FF-85EE-B2F0D04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4401381B-208D-402A-B82B-6DC9B27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71B742-7934-4EEC-9CCB-AB83C96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312871DE-1F38-408F-A671-F7B5A73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54B5F941-5776-4E55-A5D2-29ACA0E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2A379C66-70C4-45B6-A045-17EA84D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C1790892-C201-4DE0-96C6-73F65C8F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909F37A0-91B3-499C-9D83-B047D710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CC2BC202-5C1C-4284-8D04-E0627DFC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8578D077-B6BC-4D73-9E8A-E35515A6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D1DA611E-2D67-4ED9-8515-7E70D3E3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413690AF-7036-4F60-95F4-40AEFCCF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03FC3FDC-0B77-44AD-A3D4-25031835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D14AB-FF98-4414-ABE3-17301314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CDB9B2EA-BEEE-41A1-A40D-7A0BD9E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36483AA5-339B-46EF-B292-4A46CDB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4FF84C80-E0A6-48B9-A666-FF1FC99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45B5A390-BE8F-477B-94D3-A1F8344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02B948EE-8D7F-463F-9CE1-7661DC0B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C1C88319-37C8-47E9-90F7-1C4FF722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50BF19CD-06A4-4FB1-8C7A-FA0AD243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5B376601-A87B-4CBC-8C0E-7D064EA7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C6A9AFEE-FC28-42C4-BBDF-8F7B1987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C043FF70-5CFE-44D2-B4B6-BB98845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1865-5F46-4653-BC6E-602F9FC9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AC55E2-EDE9-41D0-AF82-A78597B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8D52A1F4-5C25-4A7F-A9D2-3ACD48E1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41DC0531-3DF1-47A7-BE46-8A4B620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85E32F58-A9E1-4493-ADE2-9DBFBC66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F4C7C074-33F4-4199-ABA4-AE881ED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2C9A06C9-9F44-4E51-846F-9A791F4B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28B29795-2CA8-4D8A-9DE1-42F4025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5331BAF7-1649-4C91-9734-FD5C34B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9FC01354-0318-4349-A37D-ACCFEC45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A3F244B7-8A40-4CE3-9ABF-2049DA8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A2164336-26D0-431D-8AD0-2A724A1D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60B4E1-6376-418E-86BE-C9D76030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E4FC83CD-6F0D-4273-AC51-28D0EF94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182C0F95-FB35-4326-B588-A2AB18A9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25EFD9A5-954E-455B-A1DF-6C96B2C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6CD12A34-5119-4C2D-A4A6-36A36E4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F10E1193-70F2-4150-A542-5E1C036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67EF6DD0-2D5F-4E0F-A783-A21A4F3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E5EAD09D-07CD-4C3D-B312-0379C22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9615CEE3-C9A0-4C47-AFFB-222960F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C79EA321-BDF9-41D7-A88A-C7CFD1B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64490C5E-C17A-4570-8461-6F7CB66B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32B431-D8DF-4D81-B63E-229CC671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3DE5CC04-6CEC-43CE-BDEB-8FA72003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61A197B6-0991-4584-9F5A-E081BDC6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9C37905C-F685-4BF4-886B-FFAB3C08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8C74560C-3D0E-466F-89FD-91BD5C77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C9A50751-FDE0-488A-9A2D-58BB962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7CCDBE08-0C62-4B0C-81FF-6EDDE3A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D13D2A45-55DD-4550-A679-583CD584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E7315670-E152-4DAE-884A-A213F3FD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5E6AC3B1-4621-4ACD-B3C9-BAB6200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4FDD22C4-5BEC-486A-97D2-2BEC813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B5B04B7F-CBF9-4426-94CB-5ECA1ACA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F0A35027-E409-489E-98E1-7C42DC7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AB8D7CF3-155D-4795-8CC4-50987BF4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B04B7DC9-6978-43E6-818A-7EA38B5A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8EC4E0C5-9771-4C55-B571-A26707D1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D0D1AA96-F6BD-4188-A0C4-036E28A9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DF39C702-29AA-4791-868B-8CBC1794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D33C2DDF-0061-4ADB-A17C-3CE74C0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F1F4F253-C799-4BE1-8F6B-330C4BFB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E54EBED6-FF58-4269-9CBB-FBEFB14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9E4F86F1-221B-4492-B757-48EA12D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C98B4808-A3B8-46E8-8D0A-5434C55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7FFE7292-125F-4268-9B99-23DD4ABE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DF627F15-C5B5-4D37-8E23-4D6063C2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2C18D44B-351F-4E41-A7E3-4BFC6CAC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C895EC8B-42E6-4992-82AE-3D048742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57F6912C-2B2E-4542-9659-27BE7B5D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6EAE47C7-ABA1-40F3-9E97-9CA2FA95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1B29FDC2-410E-4A7E-8507-BC20FFF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8FB20F32-191E-4626-B192-0176613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CB8B3283-5D34-4300-BBA5-96A4D3A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13B505F0-AA7C-470F-B1C0-EB16CD2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AB180D31-B995-4B50-9753-4A4DDCA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DAC3063B-0540-441C-8CD8-507468E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2C64B726-C18A-47B4-93CE-5338C5F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4A741902-2D19-434E-A8F4-B1B9B374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1BAFF026-C8D7-4839-964C-D31E0437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68BAC422-4377-4638-B1F6-0A279A1C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5242F73A-C434-406E-857D-E21DEDD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52DFC146-FD21-42D2-BC48-4425E8F2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5F429564-3125-426F-84BA-7D401415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1C366E89-A50F-45D4-8C52-C29F25F8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F87396F-D788-485B-B93B-C544F000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03AD2F6-A7EE-426B-9570-677D7BC1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33D342C4-2055-421B-AA91-DD2F2BE4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E7219A33-24FE-4436-8CC0-8D2A1FB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8E62053F-3F14-4A33-919C-CBCE2219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601C143D-4E75-4C6C-8582-AEA3B907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1686C1D1-6685-42ED-9996-95D6669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7477A426-79C9-43F5-9437-239A4659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B72D2658-B75F-43C0-A4CC-0CD9CF4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8ED45B06-A969-4A90-BCFE-65FE0D31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65422788-61CA-459E-A33C-D8E55805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9A7DA5F-9980-4DD9-9490-3121438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C0987DD-D008-4EE9-82DC-51DCBEFC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E354F64A-5FC3-44FD-943E-30031363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7847BC07-78C7-4BF5-886A-DD565C4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20CDE170-6CB3-400E-A8BC-4991552C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DAC29FC9-333D-46B6-9949-55465FC6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95218C6-DC21-42DB-B1E7-3843BEE8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AB7CC85-1D23-4767-8295-62686547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3B318E8F-1DAB-465C-AACB-D5EA32C9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43CE0876-6AC6-4065-926A-E6864E5E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567011A8-6143-459F-912B-E1A831D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E1E4489D-051E-4B3E-A4F9-40C24D37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75A902BE-6120-4D0B-94BC-15AB2048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0DA907FF-4FA5-47D0-B612-3B3B4F9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EDBBB9CF-93D3-4EB1-B802-8A86789F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B818-D726-46B9-8170-298BAF17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3E9EB2B4-5754-410E-99DB-A5CF8EBA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676B45FF-61EC-4694-9A6B-8A85FE5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CA522358-1E1C-4AAB-8909-F70D06BA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CA8DD7B3-F2FE-426C-9078-0B1DD025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F43F2E02-CC81-4A0C-B439-51B20EAE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9E3F4FC4-0A3E-41C4-ADA4-26AA1016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3855E5EF-595A-4EC3-9B79-6AFAFF24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20D93123-AE4D-4A3B-9DD7-3F181E0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64C02BD5-6BA0-4CD1-B9CB-3FD5C3B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5294DFCA-030D-4B06-91BF-0E0A3CBC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8A14A6CE-E912-40A0-B74C-B4C22954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7EAD56E8-AB3D-4075-B3AA-3B3FA8E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66172DE1-CF4B-4068-AC2B-B49B6C03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7216AC8E-4A65-4DB8-A74F-15A46F4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97A28D7D-0BBF-4C08-8496-3B77A999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66A78943-B955-4848-8699-C2504388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CCF7E81B-AC6C-441E-82C8-2C0CAE13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C7B7BC37-940F-4929-8A3D-4C4BB779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33E2A999-6B2C-440F-A079-9AA85D03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91E438E6-47CF-4915-9ED2-48442E58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6F696D79-7636-47AB-A26D-BF18C2BC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12953039-5A8F-40E0-8FEA-84B59964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ABE4A12A-CB5B-4F52-8E3D-1665FC4F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D737860C-7299-40FC-B000-09F59C17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DAF0399D-642F-4C98-8264-CAD93D0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4ADDD504-4CB0-4DF1-BBF1-EA48E32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C1D46E1D-A71E-40B8-AA0A-490563F1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44CF60BA-E001-4FAF-9B16-9E111AC9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4350B49C-8957-4937-AF57-9FFDE320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4EB24CA1-C063-4DCE-BE6E-E45E0150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307C6389-2170-4497-B8DD-B175B4CC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E314C266-7E94-4A31-AFAC-F4D5FE8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3234ACEC-F9B7-4EE8-9AC8-0255060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7F7908E7-A637-49E3-BB59-2A24B316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EF09C03B-448F-4D2F-A7F8-C9321AB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F5D6E1FF-AB81-4BC7-96EF-EBB8EF4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0A1FDFEB-9757-4DF5-872C-370A580E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61D385D8-310A-43AE-87B6-B29633F3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128BC437-61CC-4AA0-822B-70A633BC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2D8EECE9-AA60-498B-B218-13D18CBC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E410D0F1-D622-437B-A54D-B7A2C5A4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B54526EC-A4D8-4CFC-A200-82186657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ABDD3D79-5AA3-4C0F-A644-10BB474E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050F8E2C-6A3A-4964-A9FE-DC8D5FB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7B1CF24D-65EC-4733-8C9D-CD2F725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9CB1774D-BB72-4CE9-947B-74E47E3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F7EB8F95-AD68-4D35-A61B-89A32485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59ED7363-2D29-46DB-AB53-CFA62A7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C960BC11-5F78-4520-81CC-443C242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73C0BF96-8AD7-478A-82F3-CF0A8C0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33EEF-92FB-4123-BBC3-E02573D8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ED5B5C62-59E9-4BA0-8900-1619F9F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B62104DE-B320-4DAB-9FDF-30B7ED33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57C675D0-0411-41F5-AB15-BB3EF844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2B8C451A-6D94-4D33-8E04-5F7DE229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605CDEA7-DD8C-479B-A545-7336F0D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A808CCAE-CD2D-446D-9B40-BEA705D8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A8ED4C19-264E-4962-8CAE-08AAB80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82BE6756-30D3-466D-BAE1-3F4A70FA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FF9FC3DA-8B94-452A-AFDD-F76AE96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2A51FDC9-271F-4B6F-AF6F-F7BB2488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32610-988E-4BCC-B678-0D34C8A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4F9A9CD4-2C90-44F9-A257-E40138E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23681575-3550-4E44-A94D-C36BCBA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74D9D1DD-55FC-4778-BE41-6FEABD7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DBB33352-6678-4882-9EFF-CC406520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DB38D522-9556-4DC9-9DEE-541917AB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51FAA-26E7-45DC-AD97-96214955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6570C-8A24-4D7F-947C-44F9CD72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3EF08-12CA-4967-8B29-2980AC1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C15F-6128-449F-94FB-749D66B7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A2434-90F6-4EA1-A987-C1A9133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BC6D1-764D-4D8C-AB5F-3604046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B4EC7-9A1E-4657-8116-A3AA8F6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D4191-4295-48DC-A1A0-CA4098D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0F04B-3A63-4D0F-B304-209E4116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02F6E-0898-45B5-BE6F-9A316CE2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DF39E-DC3F-40AB-BB30-5A45F94F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B0C423-B446-46BD-B4BA-3CB19584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C97580-F890-46AA-9B93-B4EFA4E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1EBF84-639A-4B2D-9B24-EB5C2DD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F63C-AF1E-440B-9C10-545187D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71BC44-7025-46BD-BE85-2238054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C43761-F06A-49CF-B05E-A4350AD3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922E88-EB2B-4247-A085-FCA3413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1485C0-E231-4E74-878B-74FE628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EE9CCD-E4FC-450F-9234-6E4D30B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7A2F4B-E761-4C9E-83C7-4EB1FFBF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D9E290-7467-4E0B-B939-85C4968A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8B2CF4-C590-45ED-ADE3-A0750427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CE5E2E-573D-4E13-BD93-36E23C02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F1A091-5D64-4D2E-8664-836F0DD4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3396-F4A2-4882-8B79-3A046A6B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6BCE0A-6AF7-4C8D-88A5-35F6002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DB3579-4E5A-4312-A0E8-1B7D0C63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2C0CDF-C3E2-4B9D-BFDA-863F94F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0B5398-EDA7-41E0-BDEF-34B989B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DE6CCF-6F20-416F-AB26-8C53E41F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3949AD-A44C-4C09-982F-9C7026F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AA8CAD-5F54-417B-B464-51269D7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A99D84-9DE8-4967-A108-EBB760E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519506-FB34-427C-B85A-A2C1F73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C37A2F-F203-47A8-911F-459D0A98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830B-EDFD-4AA1-9176-030FCF5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5F1486-0785-4AAB-AE49-9CAC256B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4B060C-DE43-4903-8E88-2E236E1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BD957E-247E-48E4-A836-7A37C83B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7D8A3F-FE86-4C0D-AF2A-1341826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53DDCE-3C79-4825-AB02-43240E1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DE098F-3BB3-4A4E-A5EB-53D00147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A60E76-9E38-4C9D-BC85-87DE7EEF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BB20DD-40B4-4409-A6A3-7EC6821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4F4285-ECD6-480B-A7E5-5096698C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F62346-113F-4D61-A38B-C0952029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0DB-1A19-4A35-B560-A8F5FDA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8AFC5B-72DD-4A46-A1CA-7A4210E6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8EF3E1-206B-4AB1-AB04-60B5789D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49AA7C-D66C-482A-833B-C06A74C5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0F426A-DE79-4064-BB16-8A6E8CB5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155A99-D70A-4CB7-B0E6-FDC23DFB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C5CAB0-2DE1-4D1C-8B7A-58F81A7D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007AB5-90D5-46E1-AB02-DB47B03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390709-34FB-4572-B73A-7CC7AF1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31B6E4-AC38-42EA-9F36-025229F8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4FF0B9-8354-442F-B937-F863AFAC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1DD-1973-4DE1-A1C4-B955229A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532F-01DA-4D4C-88F3-947D820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F0C8B9-4A77-4F29-816C-29D2759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3DC732-6A60-495F-B7E4-08F09E2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F2AE9D-3F96-4949-9683-7DD7E390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3DC244-D7E6-4004-B91B-D123770E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230FD4-A590-41B4-80F6-54A5274C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F8B521-CA59-483D-B7E9-18147524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83B161-9A60-4B98-9E6D-BCCFEFBA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9DF096-DFDE-4F34-A0F9-B61E3A5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328291-E0AD-416B-B1EA-880C67C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1872E9-6B58-4CC8-81D9-357770C5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93F5-A753-4A76-8FD9-5E26A34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EB4D76-E172-4D4C-BD48-08387BFE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218F076-CB20-4D45-A412-0B24B52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B9A52A-0C3F-4949-AB1F-52607BC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6BF957-8570-44CC-ACD0-C0AE6DF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3E7901-975D-457E-8F74-DE5B6FB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9A1BE7-AAF0-4EE0-8FD4-39BB7300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893B03-554B-46CD-82C2-FA27586C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7FB967-805F-491F-9715-867AB58C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8C626C-87D0-427B-8391-B6BC4F9F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CE459B-D580-4D58-8413-FEA27847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9562-FE19-4444-A69C-973220A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188D4D-2647-4A6F-9A65-4C93281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4FA557-96B3-4F7E-8221-2CFE65E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60E1E9-B166-4A1E-A578-B853367C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A7A0FD-0F5B-46B9-A360-96DF115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E5FEFF-C4C9-4045-A209-F119524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3807B8-4F4D-4B56-881B-F62CD46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7877C2-E0E5-458D-AFAC-3A0B5210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2853EC-9750-4B60-8991-EE28F861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195637-63D3-49B6-904B-731341CA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FA0C4E-69F9-4074-8F15-2FD890CE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E2A6-47C5-4D6C-9F44-D73447DC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7E54FB7-F11A-42FA-86E8-2F6C202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121302-0A76-4CC1-887E-E457399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069BBDA-EBC5-4114-B840-FDB5019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A89686-EAB8-49AB-BB29-38460C60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4361F1-C289-4C2C-BDEB-B02BE79A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BE628A-3EFC-4D8D-B218-CF8C02B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FA6C88-9277-4D3E-8405-62EAD4B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D4061E-BA9D-4401-B893-C2FC954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3528C9-0845-4316-8A9B-FA1272BB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5E77C6-0979-4091-88E1-7441A4E7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0FA0-67F4-481E-A766-CDB9FBCB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D45927-C307-4B83-8113-92EB70F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D69876-178B-4E07-94CB-8D220D92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1A5571-9657-4F85-8593-B67B810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56C57F9-320A-469C-B076-4C7A9EAA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2AF745-86E6-4AC9-B2EF-248969F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E798D9-46DF-4A7D-B9CF-32A7AAB5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D9BC09-4ADA-44C0-97A5-5D33516F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359092-89F2-422F-9058-36BC6DB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F2BF28-4DAF-48DC-9046-5B5782CC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B0E110-7BA7-46BE-87AC-3FE008E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F38A4B-0513-4146-92BD-D9C30BB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D9DAE6-39BE-43D8-89EB-E8F3C374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0094C6-8F22-442A-8905-B6A2F092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7B64D5-9CF7-45B7-BAFD-5B548993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FF884C-5680-48B1-9F99-BCE01C9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85CDB8-77D4-4A40-A337-62683F1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4BE8AE-AEFC-4926-BA71-663CC5BE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26F068-E363-41CF-9A7A-C227F65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BF3735-88E4-45A8-B061-EDB3DF0F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5AB1A73-5D15-4DE6-9C86-6F13706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577ADF-F335-451A-9749-F013D4A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D399520-E481-4FEB-ABF9-D173E786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3B2699-9CD2-4B84-99EA-20014168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2A18DD1-D72B-46A6-AA39-4ECDD748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563899-AFCF-4AE8-8163-B26AF609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F27-2FD6-4733-8A18-4C4A3FD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AF345-F204-4947-B99C-CAABD6C4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02BA9-D375-4174-A370-1AC27825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D31F6-6E92-4F73-ADFC-4852B78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2CB-C9EA-4D75-8603-28E461B1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3F286-0E49-412E-9693-A683B90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88E943-6462-4AC4-8BD7-A3E3977F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90C22-B5CE-42A0-9365-D26FDA20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1D3A0B-DF72-4B5F-9B46-23A4138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7F1A7A-CAE8-4140-A70B-4D4814E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1A1B1F-6ACC-4689-BF9F-8618043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A670DC-7940-4ED7-BC9C-134D5EA2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99FCFC-5BD7-43BA-82F4-8A5CDB37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993DD8-8B57-418A-8CEB-9172614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7685B8-D875-4543-A08C-4BD6A50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10A3792-8345-40C2-9BAA-3A02088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B72434-A851-4A4A-B1FB-891DA60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8A4CABE-7C1D-4E22-9D2D-26D3C86F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F60AE7-7AE9-4309-A53D-301EE83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96F4E8E-EBAD-429C-B87F-011B552A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C1731D0-BFD2-4EC9-9C5C-C8ECF539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720D539-4F57-4AE9-AD30-FA409032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5D76A1-FB53-42D6-A2AB-38CC20A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6BA383-EFA9-488B-82F5-718C491F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817E247-AA43-41C5-ACBF-898626C0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E41B35C-DD41-4B22-9394-D36811A7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48F633-3FE7-44B6-BECD-D3BF301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113E9FC-7C9F-47B0-AD2C-46FB14B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492619-8D91-4079-97AC-12D77BC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1E1B9-FDD3-41E4-88C3-222CFC5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D8059D-9F9E-4AF7-9BB7-5D761D68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33C814E-416A-4B63-BA3E-95918910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70C1ED1-78B8-442F-8396-D2958064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2CB749F-F94D-48FA-84B8-F66478A3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31E02F9-60CD-414B-BAD3-1C04BDE1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9C4F6E-36DC-4626-97FF-5E7A21E4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DC7EF8-602B-4590-8A3C-1155FD2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1E26BE-62C9-4B24-806D-05023C6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3EF30F8-F9E2-437E-A7B8-34AC00AB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EA4440-58DF-4DAB-A800-AB1A47A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30F1-49DC-4F4A-9634-32ADD29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03DBBC-6A78-4DDC-AE64-CD48758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AED868-9D9E-4E8C-B73B-7E55810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0696649-5002-46BA-8806-E3137100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938623-F9C2-48DE-87AA-4B7DBBDF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EF52136-E3E7-46B4-AEA8-D456DA9A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0C292C5-5246-4DBD-ACC7-8F2162AB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D8F164-4852-492E-ADAE-9A6F497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7F85C17-2D7C-4583-BA6B-0FFCEA56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BDC3628-9877-4B7E-BE0A-37AE828C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1758B7A-1322-4DA4-8E13-B7C4BDC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D8574-9735-4F83-A52B-9C1518A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1FD79FF-B8BD-4185-9FD9-B22CB544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5CC5C2C-597C-4293-BEA1-7F564D3A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F6A03A6-C868-4AD1-B485-045C43E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ED58E1-3C8D-4B62-BED2-27B64AD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BC449C3-F29E-4946-B438-D1DA5C2D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8E441E3-CBA5-4A0A-B486-70E429C2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5A9539D-F2E3-4EF6-A424-01918ABC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A14C2B-6DD8-4176-8592-7E92A650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CDF5E4-24AA-43ED-9D12-4842A79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8392C0-E26B-4890-B22B-C2FD2CE8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39C4F-77B7-4806-8591-CF112FA7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7F7E8F-C83A-4938-BBE6-86BD396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2F16EBB-79BC-4BD4-B40F-0F6418B3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324749-8393-4961-820E-F791A070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36B40A-F555-4545-9B38-7F689C5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E1AE1A5-CAA6-47FC-9A87-574713CC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788526B-2F9C-45A8-8AB7-8FF29143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54A376-6907-4CBE-806A-CA6B97ED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B6C327-C04D-4644-B725-9AB46B77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655AF67-41FC-441A-9F75-72FD7947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EF54ADD-E44C-456F-8F18-CA8570FC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7C8E6-C6A3-4784-9628-2C703D9D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65E0901-5039-4034-8D98-E2967A1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09C0663-F298-4CF5-9399-7F68762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905DE5E-1352-4C4D-AD89-E5890D89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72BBA5-B068-4183-B9BD-394E7776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3FC5868-ED45-479E-9A15-3192C33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8EF1EE3-2F9B-4575-99FB-F4A3063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F52AFE3-91CC-495B-BBF1-4DC8590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2BB46D-BFD2-4FCC-9461-53E0A38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BBA86B2-9C4A-449B-A41F-5BC5D9DD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6DE0059-1C70-43A5-BA4B-1BB08016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13107-E40D-40AF-8665-60D01DAF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2E74D72-61DF-402C-9680-EAB6C1AA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21DD62A-B2C3-4C6E-B8BD-EC13C74F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3E21B77-E75A-4FF7-8275-E8994EE8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B4D7A59-8F79-4CD1-B5AC-B508E7C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DA5F55A-F976-49F9-9AE8-5982EC00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7B8B252-86A7-4777-AEC1-104F3F8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03E4F3C-C477-4F83-AD66-EC7C884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FE7DAB-EE0E-4C6F-9277-AC8E3CE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78F7CFF-BF2B-437F-8624-244542F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9A7D016-60EE-445B-B187-DBDC3A29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94594-EFA7-4DE9-84BB-2FDB53C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A1DC942-C055-4D54-A027-C4112953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6721BA3-C443-4D9C-BAB7-6A642ACC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E51D13A-29B3-4315-98C5-E9C7320A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8AD5A4F-1A8C-48BB-95CE-6914FC97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EE5EB2C-05E7-4171-B06A-8EA9734B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0A8A42A-1568-4036-B57B-957DB862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63F44D8-D613-410C-85F4-C5D83B27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54DFAFE-9256-4B8F-BC04-FB48D162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A2F89E1-245C-43AE-A00C-FA5B0E31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393CBE2-3D8D-47B9-AE21-1551E1D0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B47-039D-4CD8-845C-9076B718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CA78F5-2EBC-46AE-96FC-C3EB5D35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205E55F-C3D8-4124-A91D-077678E8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C69A4D7-7EB7-47C0-B33D-665EA3F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4C9381A-5C74-4737-95BC-E0D00B1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B89A41-465C-4EE1-9DF5-5F336A8E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95085CE-DC15-445D-97C0-86EB93B2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C4893AF-2255-4F2B-8F86-2114F3D1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BA3EF01-D099-4A3A-BE78-CB8E78D4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4D5BCB4-1D90-4848-9CEA-E9D123D8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D17CC4F-258D-41F7-B181-FBF4037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F324D63-952C-4450-88C2-8D4DA982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36C80-0EF2-48BE-8090-C325CF0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1D4F28-2151-4217-BCC3-B19E019F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BFFCAB7-E77F-4C6B-939D-2F67D9C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C05A08C-0FA6-46D4-828E-55503CF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4D8B26F-D6E0-4904-A4AF-8E68A8B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20DF6BA-4763-4CFA-8E2A-6C9BB99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ED932B-95A1-4C68-842F-98008245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6484A90-4F4D-41D3-B2A5-395A982D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809D03B-154C-4044-A00C-48160F53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7205B95-D389-4E45-A205-BE125D90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C9ADED6-EB38-4866-B076-6D28DC4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BD08C-2D50-4896-A147-20C367A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41F9EC6-6292-4E80-9DA4-1DCECABF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A0E447B-8297-442D-9A6B-9D0AE0E6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B942886-1103-4D0C-9046-5E48B4E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6ED2182-4ABB-4D29-9475-C54662F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363955E-ED3E-4C1E-864B-C78F992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8491CB3-E0E3-4BA4-A8A4-277B7BB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0AD36A6-DCD6-42F4-B740-F30743A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6BFFCD5-08FC-4EA6-A4CF-68C29836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927F115-AB04-4D1B-B7B2-DB3A4C3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EA711A-B465-40A5-A118-999F8A8D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B2A1D6-66AD-4CC3-B6F4-DC374AA8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6C9A480-491D-4466-AEC3-631B1E9E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29330AF-BAA2-445A-A38F-75378B6F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C0C6D64-2F40-4147-AB2B-D63937E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C6815E7-6742-4CE7-84E0-8C1B1719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F58B6BD-5487-42FD-B02E-D92398C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AB8B443-A3D4-47AB-8F97-7ACB9CBD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2CA1F43-2088-4557-A915-3977B2F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94ECC3C-7D1B-4625-9AE2-C4807F86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7D7C916-D58D-49C0-9028-C7CFFCB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8A6E654-178F-4236-98A5-E00B25A0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2CE51D-2CE6-483A-A1EC-EBB67DFE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445401-44A7-476E-B41A-93563606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3B9662-0F98-4F87-BE1C-C94FAD46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C686F5B-1A93-485E-9FF3-AE9E95B4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0B008B6-43E5-4A9A-B1E4-A39E1190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8E94C7F-CB2E-4667-BD7D-9C247D08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883AEF4-658E-4756-B0FB-CFABC76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28F8818-D008-4589-9F8D-EF4BE19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0657382-634B-4819-96BC-7327842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A557320-AA48-4D5A-AB9E-66167D3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26ED6-7655-4B0D-BD73-A69BF23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01939DC-7D9C-497E-8138-0B140F1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421C0AB-6848-4B5B-B5EF-12E5FBA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F6BE59A-B797-4131-9053-AADD0CAE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9B3042A-F54A-4275-8A6A-BC48B05A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A0C88D6-9DFB-408B-B2C1-A2A9B1DD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739F0B-17D0-4CF6-A387-F6A932FF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7103829-F3B7-4356-A69A-7910813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E8A8ADE-28E1-47C5-80C5-B799B783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3C4C6C5-B2B3-4CDF-866C-73E07A75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F5D4F2-D42A-41BC-B983-C3FBA59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BA395-2BA5-44C1-8288-33934A9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8B1B225-4DFE-4916-90AF-FACBE96F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7F38B5-C5C1-4CA6-802D-A9D6D693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499229D-76CB-4E21-A757-4B0F1D0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A9A68F-6604-4891-A050-9CED4EE2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968B901-3F26-4A90-8E93-CABD4AE1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AF7BACE-1C59-4739-B202-E35C70B9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B512D92-9DFC-49C9-A7B2-22A4AC3C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DC4C59A-70AC-45C7-8049-110EE225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2ACDC1F-9AD7-4EAD-B4D8-683B1577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5323A79-331D-4652-8E94-BB3945D9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46D31A-90A1-4911-9CA9-7CB4BF1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D48CA42-AB03-4465-856A-88E419F2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A782814-CD60-45F2-9408-0237D2A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A944DEC-01C8-4811-9B6F-3D0C8CA0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07F6DC5-D40B-43B7-AA34-59E94184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89C6D4C-8982-4D94-8F63-1D4CF3E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B23ECF5-64F9-41D5-8B8D-E8FADF5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860A964-4482-44BD-8832-C582B11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00834E8-62F0-4505-998A-0D32FDBA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6F2222C-B221-4958-8495-6CC74322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10B2BBF-CDFC-4078-A5AD-D4D44CAE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6AB61-9DF5-462C-8F60-B1AAF684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7C25FCC-0D44-4583-8362-8F3DC372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4B5EB35-55F5-469F-8E78-29192A71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E590B59-9DE6-4501-BFF1-F1C3565F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F1EE00B-3289-49DA-AB8A-BB7D622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42CF47C-FE09-4789-8613-EE61EF93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DBC7ED4-C94E-43A9-BF8F-9A9DB6C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0BD8BA1-C905-4C51-84DE-BFE7DEE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D03D007-5816-4233-9A1E-F2BF347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B9BB6A8-01CB-4B28-B5AF-F7478746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93D4494-7B46-4BAE-A733-B9052446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0F4-76A4-416B-8B65-2C0C941C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E6343-4A0A-415A-829E-60D9D539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26B72D9-7E10-455B-9D3F-577E4AF5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C29BD21-2064-4486-9746-1C61B67D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059EA18-1D40-4F73-87E7-D90AEB0F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423EF35-B0FF-4864-B8C6-EFEB1C04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2AEBDC1-2F90-4CEA-A50A-05DC73E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409683C-CCBC-4ADF-B22C-ACB0EF0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B61AC80-E715-4FF7-9B27-6B020864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CF30FBB-7378-4DA5-B101-57916D07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16CD325-2CEC-4E05-B9EC-5DC14B4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E5F98CE-D727-45EE-A71B-60D1EB0A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122428-33BC-4371-A655-16574893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659084F-BF75-414B-9651-3927FE22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16BC9EF-85EA-4245-8BD6-9BBE4805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723B54A-AD14-4E10-803C-469A276E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BE3A7D2-67C1-4803-8569-EE8789D9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D843A41-5824-4FEF-9F0A-D8E61AB0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E800F71-84A4-4F96-B9D0-3619FE08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7A819B8-EC33-4BAF-A5E0-52CC73E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3ACBF33-77F7-4C96-AC09-AA3EC317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A415EDB-0FFC-43BB-BFAE-784EF19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8E2D84C-9868-43AA-92B5-B905A0B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080F8-1E96-42B1-AF21-524D64BD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44BD00F-2C8A-448C-8C7D-AF77D2A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D13FCBA-7DBD-418E-812E-A4D15DC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B5AD1BA-F3D8-4F37-A0BA-F8138CE5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A5F3EC5-85BD-47B6-9407-70A84EB3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120F873-277E-493B-8808-89D88F20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0B564A3-D589-4050-AED5-55B7C9E9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E920942-A26D-481B-B9A6-38CEF238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1B1FEAA-B051-4792-AAC7-D079232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A5539B2-7421-479A-AD71-B9C79A8B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08027BC-DFF3-447A-9214-44115B5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37A370-389A-4694-8117-D8B023A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4D05E6E-BB47-418E-B619-D36F229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03129AF-79E4-496F-8C4D-0E8EB6A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B3568C5-FB4B-4D47-B2FF-00B485B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53A3D10-8F93-41D2-B07E-F0C581B7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E40F20C-1B26-47F3-A217-24F1408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3A90F6A-7CB5-4E7D-B94B-3B536B11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DC27E78-6283-435E-960B-FEEA69A9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7830A8F-D7E7-4712-ABE1-C1446C23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E57680E-3B4A-409A-883E-4CF32A0F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7990899-EC60-486E-BF6D-7ABD043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A9EA4-6BC5-43E8-B314-A81DED9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F6D1C0E-DDE6-4C17-B7FE-B1559294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CF74C5C-A36F-4AAF-878B-FA84B713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7B4A135-04D8-4B49-9C58-C4B8331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DF99BE8-89EA-4D32-936D-8BDF593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E844BEA-E03A-4FE6-86F4-85746DB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F15A9C0-208B-4492-BBA5-257592B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AA80469-E4FA-4507-AB04-593E80C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6669862-313B-419B-8FB4-0F710883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40A89C8-F053-4D96-924E-FF2A809B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4FBA044-D79F-40AD-9F40-62F536DA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65B7F-E4D9-487E-BEB2-DFC861A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B71E44E-67A0-4093-A522-73A459A0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963B52F-EA5B-4484-94D6-3B9D6435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E3730BD-7553-47CA-B856-AB9F22E9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DFC7483-31B9-404A-9819-AF8E368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7C3496E-D2B1-4092-9749-588A1B9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B1231B5-C625-4FBC-B7B0-AFD0A0D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BD09D1F-7C08-4E44-8283-E5444DDF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4156D39-ACF4-4993-BF19-33385C3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8EB3332-88CA-450D-B093-B2A16C8E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E78871E-2C34-4C5D-94D3-058BDCF7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742C3-7558-4178-94F4-BB9BDA5F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35E9CC7-8BE3-49E5-8881-E4BCFE28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49C87AC-A9F3-4581-84B1-7EE8A41B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B1FFF09-552C-4DB8-8F05-091A8411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3B2C454-DDAD-451F-A237-CB2A14B2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6DAC2C6-F91B-4595-BB64-29EA364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FBD8AC1-B346-45C0-8BC2-1DE0F62A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2CB4957-42A8-4865-A2CA-75D50849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E500774-63CC-4C16-8EC4-85053C5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A73F578-2150-4671-9765-A12B82F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3A5E251-40DD-4500-B8A9-3CDB67A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0A7411-41F5-4806-8651-F9AB8A5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A2B5E91-9C82-43AD-9396-089917C4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EF5E0E4-387D-424D-B623-45EFC3E1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75FC7B6-66DA-455E-803D-59032073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63A4E-1827-4BB2-B21B-66F2767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E028CA6-9203-4873-BDAA-8E0EA806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F62525E-E661-48A4-BEF2-01BD7025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326A86A-E099-4F40-A164-6060CA4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705946C-EE00-413E-960E-46B487D2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4F70FDD-FAAB-4C83-9A74-B0489AB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C01AA1-8286-4390-BD71-73A81E5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96A5F42-76F2-4AEE-80A8-B4D585BE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7A7F726-4C0E-406E-9585-27AFBAB1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C56E429-FBEE-4DA4-BEFE-ABB1AE6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7AE780F-A5CB-46A4-A3FF-D626FD79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B9D6883-842A-48C2-90AE-9F47890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4730615-82D8-4810-892B-78BF845A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DE5B2DB-E7AA-489A-BCFD-65FA0E23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84A2DB1-B445-446E-9429-4A68EFDD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B60F0B1-0B42-4B5D-9FCD-BBB385E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B893F70-9EC7-40D1-85DD-A645F45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B52-7CD3-49E2-BC80-EBC0DC5F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B0237-F596-4AD1-8B3E-29971F02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473A69E-AB2D-4889-9B95-726AD817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598D19C-1B2E-4B93-B23E-B0D22422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DFE60EC-702D-48BB-8980-8926888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35F0E47-7BB9-4633-9FAA-59A3E66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1599DD3-D371-46EB-A234-DB3C07C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DC8BD1D-4C64-407A-9CCF-B6DD867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E35FD42-DD7B-4104-9C2C-C8529788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B06731F-347B-4EAE-A877-C68DD3D4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2213198-786E-495A-8FAD-A79D3D8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5C64A14-4FFA-4A3E-B68E-A2E78DE2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EB5163-C2B0-4FE0-AA6A-8C93F925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94416C0A-F4B0-43EA-A67D-7A6F5DF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95A98A5-D973-44A1-B186-54733A3C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E5B1124-1DDA-40EA-942B-59692E7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7BC17A9-7E40-43AD-A153-0CD51622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AAB2DB0-17BB-436F-8179-36C4564B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3101E94-2BBE-4C8A-9EE5-FFD72A6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A67F484-8A9D-4CAB-9E70-8D5853E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AD6F5DF-95AA-4E7F-873E-8B41F8F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9A404B5-413B-4039-9A59-AC1A58D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E2D7CF5-78DC-48FF-AD4E-86DD1513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5E227-CD7E-4D6C-A398-DCA9DC91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0D1ADF7-F10E-41D2-986F-031277AB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9D09CF6-ACCC-40AC-9DB9-75810F8A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3DC1EAD-D705-405C-9604-E1DC84E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1C19CE9-6CEF-4BBC-8CF7-B6C403E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7F194C3-93EE-4C6B-A6DA-54175F92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557EC65-6F55-45ED-BA9B-EBDD5A74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003963F-8C9E-431C-B70D-811561B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8382A6D-E4B3-4C87-8474-D84F68C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C5921F6-AC76-4F56-8937-D1DF2EDF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02B0557-FCF1-4635-9202-6D99B005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2506FB-7521-43CF-915A-C7CE1356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77D9A7D-1084-4E79-9E70-5A288F2B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1412B21-42BA-4EB1-BA79-CBC4C34C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65A710F-C2E3-4CE5-87AF-D8CC5396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7FBF0F8-BE12-4D92-BC61-A20BE6E8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CA9B9FC-EBFD-464B-9FF8-44280F8A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7508CE3F-E235-4446-9D15-341EC5F0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FAF0EE6-3D40-4052-8509-1C37C90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87072D1-4C4D-46E8-A1D0-3060ECF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5B4CE0F0-DE07-4E21-A2FB-F3514BDB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2C55ED08-E161-4D12-BE08-4030297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8891B-BE15-4248-A4E4-3DFAE46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2EC8143-FE88-4CF3-9742-3A9563D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2BB715AA-E33A-471A-96DD-9C4B9B18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5490A4D1-BB02-4082-BF7F-8A41960E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AE1977D-24BF-48A8-A00F-5CFC07E3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29CCCEDC-744F-48D5-9C72-7EA39D7E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59D2940-5733-43B2-A99B-EC45DEF8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76DED84-8DBE-4C42-AD51-E67B0282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42648AF-11EE-4A60-BD11-447B49F8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9CE0E63-FC5E-4C96-AD15-C46934A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22ADC87-41F0-4A3F-BB7B-A9D20FA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05B241-A447-4C01-9561-A3DE6375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0363B01-D067-4E81-AC7B-8C2D7D8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8B1D6C0-A7CF-4D1C-B6AE-845CD4DC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980BF8B-16B1-4848-952A-734FFC7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4BA685E-8B2C-4607-8937-5A5D63F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65B24DE-A871-4660-93EC-FC93921A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CEBE404-3465-490C-8634-6C1D1821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04D2CBE-5A63-41E2-9E7C-B5AA5FA1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62E47F0C-A932-4CA1-9931-8FA8F688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276EE9D5-0231-4691-8767-24A0162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65ED8DC0-6050-4B45-A248-0BF7CD1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CD0807-E515-44CC-88DF-A269266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055DCDA0-F2D1-4CA2-8CD6-1D0B7D33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90E06276-BDF7-43B0-AD9A-DC5ADD9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F62EE895-D449-42F3-A216-3550816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D836DEC1-8095-4E95-8BD7-DA62680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EC98D15-CD68-496A-9067-021C1DF8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72C26B96-E43A-4CFD-BFD1-31B37DA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F4E28598-305A-4ED5-B061-5A5D65C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5E78533-D8D2-4145-99DF-E1D1723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02890C0-6EE3-4314-81ED-51093F6C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774ACB56-2081-4251-B5CB-EDE33720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B95F06-5558-4316-82F6-FCB66684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2C9A87CE-5944-482A-A02A-C917E5B1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E38A340-D255-47E1-A20E-B6AC8CDD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69E9258-20B4-4D2C-8B09-0432B59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ECA461B-8BF6-47F4-A7C1-A0386F6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9B69D1D-A874-4531-9806-6BE75AA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D0641A8-E0A7-4835-A1FA-32D80EB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3A8BB18-FEA9-4F01-8675-B1132B3E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6FD65B6-16CA-4609-B795-02B6D1F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9A41AA6-8FFE-4D51-A60F-D23D2F63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5887A92-FE2A-45A0-B52B-11D0B678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59B56-03DB-41F2-9EBA-E09699B8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AD720A1-9D1B-4946-A05C-DDDB3330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C9053C8-53A8-450E-A04F-E7D856C8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DBECB4D4-EE45-40BA-93B9-ECA52917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B3B9A464-E550-44B9-8607-AFAFB577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20105630-6DF2-42E0-87EC-37C2306B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1B01CB49-98D3-4F11-99FC-3F970AE0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88CA29E-B64C-4637-9EEE-34D954A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461D5D04-AE15-4C60-8EF4-3A20EFF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ECAE604E-A4F2-4B09-9F25-01BCD10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ACC5A797-F2D6-496C-BA86-D9E7E5E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EFA33-D9E1-4984-BFFF-5F61241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812CA3FB-4C8E-4D49-AF72-CAED7BE6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29C5F583-B906-4D90-86ED-A32A4729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D7DD57AF-8959-4FF0-8E62-D9423A32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15DEC5B-4745-4E41-83BA-98C9AF5C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77826AD-7233-4F10-B260-C2C5714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7360B3D-2567-485B-B909-927768D6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11A785C-4F03-4E8E-9B06-038FF64B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D20407B-270B-47C1-BF40-0BD35487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2D0EF29-BCEC-48D2-99E9-8A016DD8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9D1F471-37D8-439E-BD70-30ADE3C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7E5-1A26-472D-A3FE-6A2DD729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0371AE-17BB-4FEC-A59B-7426B81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C5413DE-E8EA-4333-B75F-46FAA0E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2CCE46A-46A1-46CF-B321-D0311B5A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94D5189-4CCF-40F8-BCFF-BD25CFC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3710CE8-FE4D-46ED-A3FD-FD2B7ACC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6CB2068-6274-4331-986B-46BFAD20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E88AC-F123-4152-9618-52DD856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F2D984C1-0449-42B9-A674-D5BF4F7D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3CD4F92-F023-47CC-991D-A173C54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7FF480A-F47D-468C-88F4-04E4866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386EC-F5E4-442D-80AB-9807FC9D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8DD2B22D-EB41-459C-B0D7-09581EE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9154C185-3EDB-4DC7-B32E-6772B9F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1FA801FE-03E1-49E8-941C-5FE0EBF4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AADFD0C-CEC9-40D2-95E0-FBA6113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7E7A3A2-7DE5-4B3D-9728-3665083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221C450D-959B-4FFD-AE20-C11DAF3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8411E8A1-8CB8-458D-AF78-83C230E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20D29BC8-D989-47DF-8BD9-E43C36E7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83822A76-63DD-4389-8652-7B17CAC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A197F83-70AE-4BC6-9A28-F3F7BD71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35968-280B-4DD8-A529-2BC158C6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2585004-C094-4849-978C-DCA0B63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F268E55-E0D3-4AD9-A54E-3EC0589A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E18FC00-AB79-47A5-BF3E-B82D63B8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BD5856E-D7AA-4065-8826-1376AC28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B9E0167-5170-4493-BA74-8AE32836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FF72249-3C97-42EC-B111-70B091C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E03844A-87E5-481D-867E-45F5EBF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22EA1FD-A255-4A3F-9C6B-1591981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E69CCDF0-F20A-41E7-B2A4-00D918A9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2EF03E8-596B-40CE-A3DA-F81E6994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C57C2B-A030-4329-9086-2288F223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34964BA-5578-421B-8B8B-0962AEBD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9C83CA30-6CF2-4E67-BF5E-6788CF4B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72942EE0-0468-4497-93F9-19C31C1C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3B8F4FD6-361E-405B-96BE-CCC85C7C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A6A06AA9-44E3-4C67-BA7F-0AB86D4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8EAEA156-65B1-4BF2-AB3B-FCEA6514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751496DA-BCA1-47DE-B2B7-01BF1C5F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5D793F7D-AFCD-4736-BF07-304AA936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2DE96DE0-160B-4FDA-A0E0-62CA970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5B79F9F9-A023-4DC1-BFFE-D29FC38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3D2CC7-5A34-4F1E-B4A2-FFB7BDF9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891188F6-51D8-4523-B77F-08294E83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9F817BCB-9946-4DFE-A1ED-A5502CB9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07B44EFD-B13E-4799-B0AB-BBE74EA1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200FCEF-7A76-4363-8E2B-E935D82A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9DA0CB9-5771-4417-BAE8-72A71E0A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2CE0C89-5DBC-4B01-8689-9B457E2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8A6D3D1-3FC9-4EF6-B30C-8F88474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4C38179-EB9A-4503-9322-D1F6CEA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1AAE219-2394-4181-8FE0-9855D98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CB98F44-EB21-484A-AC3C-298BA2A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3312F-692F-47FF-9820-B6AE2FD3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E5F5678-E483-431C-9A5B-83341E3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1B42CE6-BF3A-49E0-8A12-ACD30C0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BFBEE75-3E99-4DBF-A252-F51BCD30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0586C35-19C7-45FE-8B60-77F64E7E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49EB83C-B499-4D67-9E8D-EFB62B1B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8235B66-5014-41D5-AE9F-CF4C776B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A6727411-F5A4-42E8-9483-F41BF83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BE6B0FEB-7900-4BA5-9666-CCA5A7ED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D56BAFC-2E6D-41A1-9E7D-019E825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2ADE13F9-D936-4FB5-AC25-9348691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BFC90-FF18-4946-B746-59B9F32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6A84CF9-C8C4-46D3-8BEB-654277B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F88B7C8-45A4-4405-ACE3-25F19A4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97B9397-7E36-44C3-9AC6-DFBC804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505DAE2-A0B8-40B6-8468-A9F069B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9F0BE4C-D409-4E51-9092-AD0FC739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88FEBC87-ACC2-43DD-AB79-B9C511AD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D622793-ACDF-48FC-A8A0-A1C0FCD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7911B27-0066-4475-9FDB-8361A3AD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E10E972-D791-4739-AB61-77C5C7FD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2A8DDA4-D4A1-4636-B50E-EB8375D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FDB329-6D43-4922-BF1C-CE1E4279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15235AA-2140-400A-ADCB-9E4EE1A2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975170E3-C63C-47DE-97FD-52DFF489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1B14FF7B-4C1A-450C-81E7-AF57597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6C81CE37-7A70-4235-9655-BD92733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7BA549B-A90F-4DFE-A915-588E7B2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3F12999-9969-46D1-9F76-3DC95BF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2BAE93B-7447-4294-A7E8-D0F8D36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6F283707-4CC9-4517-8A56-D73D6939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618DA8A7-F436-445E-AB18-4411F495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F83A8080-E6DA-47C0-917F-72D4AEDA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2DC77-7474-48A4-83FF-083E65B9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1CFFA544-381D-4B68-B263-39FFEF10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E40109F2-27E8-4FD5-A773-B96F6A30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B2B3895-4DF5-4713-9C59-3E848479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607505C-F32C-4212-9725-15498DB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1807DB59-F7C6-42D4-BF32-09A7372A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FD52705-2B72-455F-BC18-F9B92E7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68251F3E-A061-4F8A-BB1C-C9D9912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2E0A513-BE3A-4760-945A-1C94B74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22C991F7-92D1-436A-8100-284B3A54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15805F8-A2C2-4DBD-B26C-8795DA8F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BB4-82A1-4C54-8511-CECB66C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46492-14A8-4D25-A453-A97EA94E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67F9C23-C727-4193-B2FF-74AB35A4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86F49DE-F0E3-4C95-8F5D-F14E1AEF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A18D947-B614-4855-B60C-E0A8C348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43164626-6433-4BB2-B57C-FB6D6390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201933F-874A-47F8-8A89-3BEED440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3B4EBA4-ADA5-41ED-BA21-3A3146A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D9DDDBCF-ABFC-4146-B12C-9891F6F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264CC13-8ED5-4867-88CB-4FB24E3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E12BB818-55BE-44F5-922A-0255453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83974655-86F8-449E-A16D-A7DB7AFA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5CAE01-21B3-4695-8E02-611B3F95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EDFFB5B-C40F-4E30-97A6-2317FEA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7FB88B0-05EC-4BF4-9E84-ADAB7C07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BE8F6DC-C2DF-460D-827A-43D3C03F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512E78F-CB69-4771-B2EF-6C280277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A7A34C2-4A8D-46B6-AFC7-C7621B4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61C5BA9-918F-4FE2-B018-9D722B1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2CB3FA6-54BF-431F-B22C-A582E78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F555D58-702A-40FE-993D-7B6E369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F663F9C-88CA-42D8-80DB-8626BB64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246B288-932B-41BC-AE17-1F28E11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E9AD3-BCD0-49E8-87E8-DF4441B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CCC1728-FD31-412C-8BFB-320A8B4F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6472A3E-4D40-466E-889F-EA3AC1C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B771EE4-3473-4C9A-83BC-7ABB09F5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A3028FE-F9E1-42BF-A7E3-683C7011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B4A90EF-73CD-4CDC-93A0-6C1A6E6A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90C3FD6-6774-43D1-BBE4-2B8BD91F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F2FD0E4-5782-41BE-9B1B-1EA9FC6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54AAC623-A9BE-4034-B317-21097656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A6056B2-7431-4104-B822-DBB5EC6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2DE58AC-FD61-499C-AB0B-FBBDCEA7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02A2C2-1118-48E7-9B2D-4A9A0EC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CB57655-623B-4D2F-A228-718583E5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2B1E0D0-56AA-4DD2-A0B4-11D98D2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C3C7CF6-FE36-44A4-93F2-042D950B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D5B909A-671F-4C0F-B97C-82191A1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0C98597-A52C-4CC5-968E-1F934A00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2C3DFC0-B59C-42BB-8ED5-A6A52EBB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F588E58-D421-4945-BFB8-6F5C4870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90868-D3FA-478A-8F65-BFD259C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BD3E7CE-8D6D-4B7D-BED8-8F43FD10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F863A6-74B0-4F9E-AB4F-C9EDC3F4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AFC9820-01F0-47AB-B64F-23EEEE91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92F23F2-E9CC-4240-96FA-6CBD29D7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AFEA8FD-E520-447B-91F2-C50F1293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69BBE47-6946-477D-9721-424FD4F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F5DC40D-0008-4AD0-BC7A-747C5B5E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88DB5B9-8C23-4487-A90F-82A23BD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DAA7D0F-4337-4D41-8D8E-5133F8E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1FED127-4762-4FDE-9C78-4140504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47F2862-8B66-45BB-983E-04D2F11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1A1894E-8B1A-43C8-A23E-AC3E5E5B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31757-1756-4CF8-B71F-B9D64AC1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DA1069A-18AF-4D3F-8378-73005BAF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FB9AEEE-772F-45C2-8AB5-933F16BA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E274C62-564E-4B41-967E-9231CC59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B640520-7B04-48C8-891F-6FEEA0FB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8EBF697-2E28-4693-B24A-19BAE1F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59F88EB-0204-46D8-B048-550AC2B8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62B97E7-3634-470D-AD92-14D90B48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9E532DF-1DF1-4F74-BE64-4710EB6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9AA4330E-2C6D-4222-9A27-A0F400A6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D1C6384-73AC-44E9-B9EE-242E0D47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9CE3B-24BB-41E3-A32B-9DD8A869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DF7CE2A-C5DB-47C2-B81F-7C78EB8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0BDCF9C-E140-48AC-B525-D6FB74E9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B528B9BE-9445-4999-8800-DCEC7590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4AFC846-671A-43CF-95A1-476A6DA6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D98801A-F941-4FC4-A28D-561F68D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34D4465-6C64-49E8-B15E-25A6332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831CD13-5902-4B50-BDC6-0860079B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8702D31-304D-4155-9595-E924F44B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DF91F7E-C0CA-487C-9A56-06E25F9A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4A8B535-E494-4271-8006-9D2755B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5DF79-DA49-4AA5-91F5-96B7912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D54F717-A60C-4CEE-88B4-02732E74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D64B4D1-2938-453C-8A85-D67F13F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F3A88A4-988A-42E5-90D6-483B378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D61BBBA-433C-442E-960A-D52B3A3F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EF927C6-549C-432C-A08C-646FA45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F01448F-E7F6-401A-8996-786F9388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227ADDF-1FC9-47FB-ABC6-B4EEF63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48E68606-0C75-48A5-8462-67D0A90A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DD8F7AE-02CD-484D-AC1A-F2570D6D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A5459492-8CF4-4985-BCAC-896BE339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85ECD-3262-49A9-8E77-111991C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3EBE904-653A-4A99-8716-46E9E04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5BD6584-1988-4ADE-8D43-24D425D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57BB076-7924-4E28-BE68-0813670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9CE0E1F-78EE-4B3A-891A-6A9A1AE7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CF6AF5D-9393-4D80-9342-AEAB93A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AF6CEC2F-189C-4654-8C55-B576D381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44A8D01-84C5-4369-AB56-F3E95C52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FA24212-195A-4087-9C2A-628900ED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9CDA8F9-E8AC-460F-B798-3AD7F15A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45E9180-41BD-40BF-91CB-E692457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E8F-F350-43DA-85A3-F14253CCC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5473-1E98-41C0-98A5-C23495AF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 type="dt" idx="2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 type="ftr" idx="2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5"/>
          <p:cNvSpPr>
            <a:spLocks noGrp="1"/>
          </p:cNvSpPr>
          <p:nvPr>
            <p:ph type="sldNum" idx="2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5225-0FCC-4705-9187-E96AE6E49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 type="dt" idx="2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 type="ftr" idx="2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5"/>
          <p:cNvSpPr>
            <a:spLocks noGrp="1"/>
          </p:cNvSpPr>
          <p:nvPr>
            <p:ph type="sldNum" idx="2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347E-511D-4132-92DB-E3A304758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 type="dt" idx="2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PlaceHolder 4"/>
          <p:cNvSpPr>
            <a:spLocks noGrp="1"/>
          </p:cNvSpPr>
          <p:nvPr>
            <p:ph type="ftr" idx="2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5"/>
          <p:cNvSpPr>
            <a:spLocks noGrp="1"/>
          </p:cNvSpPr>
          <p:nvPr>
            <p:ph type="sldNum" idx="2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8839-70F6-47CF-BA84-CB9358D3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 type="dt" idx="2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4"/>
          <p:cNvSpPr>
            <a:spLocks noGrp="1"/>
          </p:cNvSpPr>
          <p:nvPr>
            <p:ph type="ftr" idx="2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5"/>
          <p:cNvSpPr>
            <a:spLocks noGrp="1"/>
          </p:cNvSpPr>
          <p:nvPr>
            <p:ph type="sldNum" idx="2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4376-C2DD-4AFB-A75B-273E6396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 type="dt" idx="2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4"/>
          <p:cNvSpPr>
            <a:spLocks noGrp="1"/>
          </p:cNvSpPr>
          <p:nvPr>
            <p:ph type="ftr" idx="2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5"/>
          <p:cNvSpPr>
            <a:spLocks noGrp="1"/>
          </p:cNvSpPr>
          <p:nvPr>
            <p:ph type="sldNum" idx="2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004-50FE-42DD-9789-27B8A84B8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 type="dt" idx="2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 type="ftr" idx="2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5"/>
          <p:cNvSpPr>
            <a:spLocks noGrp="1"/>
          </p:cNvSpPr>
          <p:nvPr>
            <p:ph type="sldNum" idx="2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CF3-6579-47BE-B838-68765FF5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 type="dt" idx="2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 type="ftr" idx="2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5"/>
          <p:cNvSpPr>
            <a:spLocks noGrp="1"/>
          </p:cNvSpPr>
          <p:nvPr>
            <p:ph type="sldNum" idx="2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5928-824D-412A-8641-9802194B9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 type="dt" idx="2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 type="ftr" idx="2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5"/>
          <p:cNvSpPr>
            <a:spLocks noGrp="1"/>
          </p:cNvSpPr>
          <p:nvPr>
            <p:ph type="sldNum" idx="2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269-A9A5-4306-BB05-399169E7C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 type="dt" idx="2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4"/>
          <p:cNvSpPr>
            <a:spLocks noGrp="1"/>
          </p:cNvSpPr>
          <p:nvPr>
            <p:ph type="ftr" idx="2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5"/>
          <p:cNvSpPr>
            <a:spLocks noGrp="1"/>
          </p:cNvSpPr>
          <p:nvPr>
            <p:ph type="sldNum" idx="2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F65-72C9-40C6-8208-D781E0FD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DB5-491C-4571-9601-A7D90626A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 type="dt" idx="2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 type="ftr" idx="2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5"/>
          <p:cNvSpPr>
            <a:spLocks noGrp="1"/>
          </p:cNvSpPr>
          <p:nvPr>
            <p:ph type="sldNum" idx="2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0D7-640A-4A71-AF32-FE32ABD2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 type="dt" idx="2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 type="ftr" idx="2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 type="sldNum" idx="2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5E27-5CFC-4339-8E27-C6648EAE1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 type="dt" idx="2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 type="ftr" idx="2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 type="sldNum" idx="2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0FF-23CA-47CC-942A-F840C150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 type="dt" idx="2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 type="ftr" idx="2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 type="sldNum" idx="2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93EF-7097-4106-9DFB-223019D07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 type="dt" idx="2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 type="ftr" idx="2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 type="sldNum" idx="2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119F-F92E-4794-A74F-7CB6DE0ED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 type="dt" idx="2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 type="ftr" idx="2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 type="sldNum" idx="2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7BF-BB44-4C93-B379-55FB9A2A8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dt" idx="2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 type="ftr" idx="2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 type="sldNum" idx="2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4B02-CA1A-447B-BAF2-57FC9006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 type="dt" idx="3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 type="ftr" idx="3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 type="sldNum" idx="3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7025-687C-4E9A-86C1-8F8EC863C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 type="dt" idx="3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 type="ftr" idx="3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 type="sldNum" idx="3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B721-30F5-4ACD-B88D-CCABCBC6D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 type="dt" idx="3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 type="ftr" idx="3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 type="sldNum" idx="3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380A-F96C-4310-B674-1EA8443A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 type="dt" idx="3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 type="ftr" idx="3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 type="sldNum" idx="3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8E7-EA6B-4E28-B325-C978367A7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 type="dt" idx="3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 type="ftr" idx="3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 type="sldNum" idx="3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07EC-5751-4BFB-95FD-D5D2D56E3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7C3C-D9DB-4E9E-B64C-191210AE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638F-08C4-4D5B-9A87-5643BE40D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3C93-64F8-429F-90A2-337BC744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3D5B-8EE5-4B1E-BCAC-D86175BF4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575-603B-4185-AE95-5BD1BB973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EFF-5B4C-4522-B572-A67B196E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DAB-F067-4181-8385-D719A342D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E2AB-E9FF-4F9B-B573-DF3AAA274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AA11-60C0-4393-BB18-A9A3B550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CB6-EC88-47F2-A235-6FA2C81FE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80D-9860-4960-B498-C4278D007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6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6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ftr" idx="6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6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6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6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ftr" idx="6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6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7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ftr" idx="7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3661-F3F3-456E-8693-1F53B5290AD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A925-410D-4D5E-8E94-C8D1779B9A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77B-1DA5-4547-875E-460BAB9D68E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BFF0-B11F-4ECE-A386-280835618D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469-A3EB-43B4-9DDA-132D8D58981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FF6-84FE-4F76-A907-32E1868A65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2688-8828-49DD-A368-3054ECE718B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5865-0707-4382-8C13-CAA2065F19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EC13-5F92-4D60-BC6F-2E26F375A5B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9524-A975-443E-80B2-7BC3FE3901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6326-9F05-496D-ADBD-5BC2F00E6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F55-88D8-4786-9D8A-EAB3F394D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CEF0-625D-4F4E-839A-61065ED934C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5029-F2E8-42B2-ADD0-F270C8EB3C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415F-3818-4322-A766-567EE031E3F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B90-1454-4C1B-9C25-A26DFD72E9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B264-D157-40F2-8F17-28FF7D5B573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283-6A11-4859-B94E-09ECFB8371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1E6-9375-4B26-9596-7BDF3E6C7BE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C140-0577-4918-8FD3-04C95771BF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4E73-4852-4667-99F8-25FE8147A80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DDC7-2FE1-4DF2-A204-02569904F0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6FD1-8573-4DC6-AA36-6E5B658B065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CF8E-7F27-4670-9CFF-2C748431CA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DF82-C6EE-4500-9580-0248D431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3F8-E04A-4141-967B-021D911F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A49B-FFB8-4089-9ED2-FD2252379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3DE3-4170-4C02-A223-DABB601FD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3CCF-AE94-4928-A939-8BE494B6E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02D-6287-4EB2-BE94-B46346E19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515-E42D-4696-8552-077EF2706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49E5-83D5-4E27-9B9E-53DBCDE7C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1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1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54D6-BEE7-422C-85EB-D168DB30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1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1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8436-14F9-4FB4-92AB-50E3232A3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0017-20D7-44A5-85DD-1566354D2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 type="dt" idx="1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 type="sldNum" idx="1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FA0-DADA-41BB-9810-A02C38B46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dt" idx="1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1EC-0E7C-422B-8DBA-8D456CA8B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20BD-DB39-47A7-B962-B3952BB0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7A5E-BE92-49F4-BAD6-C5475C3A1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746-692D-423F-BA5A-C3435490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F0B-EDFD-4580-B142-08DAB7DF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CCC-87CA-4AC0-9BF8-6BC059FE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E79-B5F3-4400-B8E8-80213D446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 type="dt" idx="1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 type="ftr" idx="1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 type="sldNum" idx="1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3995-0FC6-4B26-9B61-360A2237C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F1A4-6205-4456-BDBD-020FD3A93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6465-A56F-4AC5-BF98-5BC59F48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E22-E223-4B25-A38B-89A5E7502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EA1-5231-4420-ACE4-8F46C832C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 type="dt" idx="1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 type="ftr" idx="1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 type="sldNum" idx="1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3CE2-B81C-4519-8FCA-322CDD71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 type="dt" idx="1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 type="ftr" idx="1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 type="sldNum" idx="1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D2F-E17A-4DB3-BA55-48CC80B0E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 type="dt" idx="1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 type="sldNum" idx="1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5C3-3B04-4054-9F0A-46CD99D35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 type="dt" idx="1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 type="ftr" idx="1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 type="sldNum" idx="1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F74-540D-4820-81C1-AE847227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 type="dt" idx="1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 type="sldNum" idx="1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A2CB-6BD9-4642-9CB4-8B5842E36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 type="dt" idx="1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 type="ftr" idx="1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5"/>
          <p:cNvSpPr>
            <a:spLocks noGrp="1"/>
          </p:cNvSpPr>
          <p:nvPr>
            <p:ph type="sldNum" idx="1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DFF-70A3-4BD0-B2A3-2A9E6AA25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 type="dt" idx="1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 type="sldNum" idx="1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8F34-D0C4-4845-95A3-8A13EC0BD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 type="dt" idx="1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 type="ftr" idx="1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5"/>
          <p:cNvSpPr>
            <a:spLocks noGrp="1"/>
          </p:cNvSpPr>
          <p:nvPr>
            <p:ph type="sldNum" idx="1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DA1-E88B-4C0E-9015-234715887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dt" idx="1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 type="sldNum" idx="1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9907-81A6-4716-A2F6-B47198149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D34-2264-4FC3-B819-D91A1D7F9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 type="dt" idx="1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 type="ftr" idx="1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 type="sldNum" idx="1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5C4E-7C7E-46B4-9709-23657BDFA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 type="dt" idx="1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5"/>
          <p:cNvSpPr>
            <a:spLocks noGrp="1"/>
          </p:cNvSpPr>
          <p:nvPr>
            <p:ph type="sldNum" idx="2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FAA-BC09-4C54-838B-850938E7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 type="dt" idx="2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 type="sldNum" idx="2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95BD-5C00-433C-85FC-FCA8B6A81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 type="dt" idx="2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 type="ftr" idx="2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5"/>
          <p:cNvSpPr>
            <a:spLocks noGrp="1"/>
          </p:cNvSpPr>
          <p:nvPr>
            <p:ph type="sldNum" idx="2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C19E-319B-4153-838E-D6312D481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dt" idx="20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 type="ftr" idx="2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5"/>
          <p:cNvSpPr>
            <a:spLocks noGrp="1"/>
          </p:cNvSpPr>
          <p:nvPr>
            <p:ph type="sldNum" idx="20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3EE-66BF-4AFE-BF05-4D77118D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 type="dt" idx="2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 type="ftr" idx="2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5"/>
          <p:cNvSpPr>
            <a:spLocks noGrp="1"/>
          </p:cNvSpPr>
          <p:nvPr>
            <p:ph type="sldNum" idx="2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C7BD-8982-447B-AA08-EC1924B6D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 type="dt" idx="2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 type="ftr" idx="2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5"/>
          <p:cNvSpPr>
            <a:spLocks noGrp="1"/>
          </p:cNvSpPr>
          <p:nvPr>
            <p:ph type="sldNum" idx="2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BEB0-C1FD-42D0-AA64-4A118BEA9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 type="dt" idx="2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 type="ftr" idx="2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5"/>
          <p:cNvSpPr>
            <a:spLocks noGrp="1"/>
          </p:cNvSpPr>
          <p:nvPr>
            <p:ph type="sldNum" idx="2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2FC-44D5-4A48-9A36-604A0FB71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 type="dt" idx="2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 type="ftr" idx="2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 type="sldNum" idx="2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DCD8-4CDA-44E4-A9D4-9901383B8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 type="dt" idx="2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 type="ftr" idx="2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 type="sldNum" idx="2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6886-B104-4855-B2A9-B1520CD79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695-60BC-4886-8014-DC4D7E17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 type="dt" idx="2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 type="ftr" idx="2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 type="sldNum" idx="2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D98-1F84-40C7-A7BF-BEF7D046A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52" name="PlaceHolder 3"/>
          <p:cNvSpPr>
            <a:spLocks noGrp="1"/>
          </p:cNvSpPr>
          <p:nvPr>
            <p:ph type="dt" idx="2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4"/>
          <p:cNvSpPr>
            <a:spLocks noGrp="1"/>
          </p:cNvSpPr>
          <p:nvPr>
            <p:ph type="ftr" idx="2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5"/>
          <p:cNvSpPr>
            <a:spLocks noGrp="1"/>
          </p:cNvSpPr>
          <p:nvPr>
            <p:ph type="sldNum" idx="2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56E6-4149-4026-9336-9C426BA7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 type="dt" idx="2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 type="ftr" idx="2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5"/>
          <p:cNvSpPr>
            <a:spLocks noGrp="1"/>
          </p:cNvSpPr>
          <p:nvPr>
            <p:ph type="sldNum" idx="2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F1EC-6DBE-48C7-BD48-683230DF0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dt" idx="2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ftr" idx="2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5"/>
          <p:cNvSpPr>
            <a:spLocks noGrp="1"/>
          </p:cNvSpPr>
          <p:nvPr>
            <p:ph type="sldNum" idx="2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EB08-901B-4A7B-8BAC-D9042F7C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 type="dt" idx="2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 type="ftr" idx="2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5"/>
          <p:cNvSpPr>
            <a:spLocks noGrp="1"/>
          </p:cNvSpPr>
          <p:nvPr>
            <p:ph type="sldNum" idx="2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A0F0-D36B-468C-96CF-0210A2603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 type="dt" idx="2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 type="ftr" idx="2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5"/>
          <p:cNvSpPr>
            <a:spLocks noGrp="1"/>
          </p:cNvSpPr>
          <p:nvPr>
            <p:ph type="sldNum" idx="2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940-5782-4FA4-AB89-256817D2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 type="dt" idx="2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4"/>
          <p:cNvSpPr>
            <a:spLocks noGrp="1"/>
          </p:cNvSpPr>
          <p:nvPr>
            <p:ph type="ftr" idx="2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5"/>
          <p:cNvSpPr>
            <a:spLocks noGrp="1"/>
          </p:cNvSpPr>
          <p:nvPr>
            <p:ph type="sldNum" idx="2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10FD-199B-40EC-AC40-E0144C59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 type="dt" idx="2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4"/>
          <p:cNvSpPr>
            <a:spLocks noGrp="1"/>
          </p:cNvSpPr>
          <p:nvPr>
            <p:ph type="ftr" idx="2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5"/>
          <p:cNvSpPr>
            <a:spLocks noGrp="1"/>
          </p:cNvSpPr>
          <p:nvPr>
            <p:ph type="sldNum" idx="2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5AA7-36DC-4143-8B54-B85841454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 type="dt" idx="2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 type="ftr" idx="2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 type="sldNum" idx="2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271B-9017-4C9F-B2D9-89E06F2F7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8" name="Rectangle 2"/>
          <p:cNvGrpSpPr/>
          <p:nvPr/>
        </p:nvGrpSpPr>
        <p:grpSpPr>
          <a:xfrm>
            <a:off x="566640" y="36360"/>
            <a:ext cx="7712280" cy="2256120"/>
            <a:chOff x="566640" y="36360"/>
            <a:chExt cx="7712280" cy="2256120"/>
          </a:xfrm>
        </p:grpSpPr>
        <p:pic>
          <p:nvPicPr>
            <p:cNvPr id="503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36360"/>
              <a:ext cx="771228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0" name=""/>
            <p:cNvSpPr/>
            <p:nvPr/>
          </p:nvSpPr>
          <p:spPr>
            <a:xfrm>
              <a:off x="685800" y="228600"/>
              <a:ext cx="7467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Arial"/>
                </a:rPr>
                <a:t>Pregnancy, Placenta, Lactation and Labo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1" name="Picture 10" descr="http://images.wisegeek.com/uterus-depiction-with-fetus.jpg"/>
          <p:cNvPicPr/>
          <p:nvPr/>
        </p:nvPicPr>
        <p:blipFill>
          <a:blip r:embed="rId2"/>
          <a:srcRect l="-134" t="5882" r="3124" b="5882"/>
          <a:stretch/>
        </p:blipFill>
        <p:spPr>
          <a:xfrm>
            <a:off x="1752480" y="24382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1790640" y="-360"/>
            <a:ext cx="5562720" cy="75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5" name="Rectangle 1"/>
          <p:cNvSpPr/>
          <p:nvPr/>
        </p:nvSpPr>
        <p:spPr>
          <a:xfrm>
            <a:off x="304920" y="610200"/>
            <a:ext cx="8534160" cy="61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ahoma"/>
                <a:ea typeface="SimSun"/>
              </a:rPr>
              <a:t>2- Progester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creted  from Corpus Luteum at 1st Trimester, after that from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hibits uterine contractions “Hormone of pregnancy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d prevents spontaneous abor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imulates  alveolar development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motes formation of mucus plug in cervical canal preventing  uterine cont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cidual rea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1722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7" name="Rectangle 1"/>
          <p:cNvSpPr/>
          <p:nvPr/>
        </p:nvSpPr>
        <p:spPr>
          <a:xfrm>
            <a:off x="304920" y="1120680"/>
            <a:ext cx="85341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3- Human Chorionic Gonadotropin (HCG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lik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prote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te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 of pregn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rease its secretion of estrogen and progeste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mula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ydi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stes of fetus to secre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oster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ent of testes into scrotum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velop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le sex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detect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days after fertil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r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2 wee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sis of pregnanc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9" name="Rectangle 1"/>
          <p:cNvSpPr/>
          <p:nvPr/>
        </p:nvSpPr>
        <p:spPr>
          <a:xfrm>
            <a:off x="228600" y="101664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4- Placental Lactogen (Somatomammotropi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ed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of pregnan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 to secrete estrogen &amp; progester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uteotroph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east develop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mmotroph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growth and it inhibits glucose transport (inhibits insulin effect) i.e. similar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5- Relax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ecreted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enta and Corpus Lut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vic ligaments to help in proces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retion Rates of Placental 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ABD-8C40-47A2-90A6-98AE414C251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2" name="Picture 7" descr="20f30"/>
          <p:cNvPicPr/>
          <p:nvPr/>
        </p:nvPicPr>
        <p:blipFill>
          <a:blip r:embed="rId1"/>
          <a:stretch/>
        </p:blipFill>
        <p:spPr>
          <a:xfrm>
            <a:off x="914400" y="1224000"/>
            <a:ext cx="74674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4" name="Picture 2" descr="D:\my documents\SHERWOOD 7 LECTURES (2010)\Media\Image_Library\chapter20\20t5.jpg"/>
          <p:cNvPicPr/>
          <p:nvPr/>
        </p:nvPicPr>
        <p:blipFill>
          <a:blip r:embed="rId1"/>
          <a:srcRect l="0" t="2135" r="1606" b="2977"/>
          <a:stretch/>
        </p:blipFill>
        <p:spPr>
          <a:xfrm>
            <a:off x="31680" y="228600"/>
            <a:ext cx="8966160" cy="6477120"/>
          </a:xfrm>
          <a:prstGeom prst="rect">
            <a:avLst/>
          </a:prstGeom>
          <a:ln w="0">
            <a:noFill/>
          </a:ln>
        </p:spPr>
      </p:pic>
      <p:sp>
        <p:nvSpPr>
          <p:cNvPr id="50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159-4DBF-43DD-A15F-35F52651DDC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6" name="Rectangle 2"/>
          <p:cNvGrpSpPr/>
          <p:nvPr/>
        </p:nvGrpSpPr>
        <p:grpSpPr>
          <a:xfrm>
            <a:off x="792000" y="195120"/>
            <a:ext cx="7712280" cy="1243080"/>
            <a:chOff x="792000" y="195120"/>
            <a:chExt cx="7712280" cy="1243080"/>
          </a:xfrm>
        </p:grpSpPr>
        <p:pic>
          <p:nvPicPr>
            <p:cNvPr id="5077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0" y="195120"/>
              <a:ext cx="771228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8" name=""/>
            <p:cNvSpPr/>
            <p:nvPr/>
          </p:nvSpPr>
          <p:spPr>
            <a:xfrm>
              <a:off x="914400" y="304920"/>
              <a:ext cx="7467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(=PARTURITION)</a:t>
              </a:r>
              <a:br>
                <a:rPr sz="3600"/>
              </a:b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9" name="Rectangle 1"/>
          <p:cNvSpPr/>
          <p:nvPr/>
        </p:nvSpPr>
        <p:spPr>
          <a:xfrm>
            <a:off x="228600" y="1224720"/>
            <a:ext cx="86104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Def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The process by which fetus is delivered from uterus after full term of gestation. About 280 d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40 wee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fter last menstruation preceding conce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Suggested mechanis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1- Role of horm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Ratio of estrogens to progester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As  Estro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Proge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terine contr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↑ Estrogen to Progesterone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t late pregnanc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xytocin recepto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initi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 by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0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1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2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3" name="Rectangle 1"/>
          <p:cNvSpPr/>
          <p:nvPr/>
        </p:nvSpPr>
        <p:spPr>
          <a:xfrm>
            <a:off x="304920" y="7995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- Oxytoc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uterine con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muscle response to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xytocin in hypophysectomized anim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prolonged lab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Rectangle 2"/>
          <p:cNvSpPr/>
          <p:nvPr/>
        </p:nvSpPr>
        <p:spPr>
          <a:xfrm>
            <a:off x="228600" y="2761200"/>
            <a:ext cx="853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Bookman Old Style"/>
                <a:ea typeface="SimSun"/>
              </a:rPr>
              <a:t>c- Fetal horm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y contractions of uter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pressure is exerted on head of fetus as a stress that stimulates fetal hypothalamus to rele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eleas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rom fetal anterior pituit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ucocortico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reted from adrenal corte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lac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gester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↑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staglandi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5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6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7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8" name="Rectangle 1"/>
          <p:cNvSpPr/>
          <p:nvPr/>
        </p:nvSpPr>
        <p:spPr>
          <a:xfrm>
            <a:off x="304920" y="1075680"/>
            <a:ext cx="8610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Mechanical factors: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cervi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ntraction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downward descent of   baby’s he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stretch of cervix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contra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(+ve feed back mechanism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Rectangle 2"/>
          <p:cNvSpPr/>
          <p:nvPr/>
        </p:nvSpPr>
        <p:spPr>
          <a:xfrm>
            <a:off x="304920" y="38170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Role of abdominal musc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 During labor, abdominal muscles contract to aid delivery by ↑ intra-abdominal pressure (voluntary or reflexely by impulses from birth cana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0" name="Rectangle 2"/>
          <p:cNvGrpSpPr/>
          <p:nvPr/>
        </p:nvGrpSpPr>
        <p:grpSpPr>
          <a:xfrm>
            <a:off x="676440" y="-146160"/>
            <a:ext cx="8248320" cy="2212920"/>
            <a:chOff x="676440" y="-146160"/>
            <a:chExt cx="8248320" cy="2212920"/>
          </a:xfrm>
        </p:grpSpPr>
        <p:pic>
          <p:nvPicPr>
            <p:cNvPr id="5091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-146160"/>
              <a:ext cx="824832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2" name=""/>
            <p:cNvSpPr/>
            <p:nvPr/>
          </p:nvSpPr>
          <p:spPr>
            <a:xfrm>
              <a:off x="838080" y="228600"/>
              <a:ext cx="762012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HORMONAL CONTROL OF LACTATION </a:t>
              </a:r>
              <a:br>
                <a:rPr sz="3200"/>
              </a:b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3" name="Rectangle 6"/>
          <p:cNvSpPr/>
          <p:nvPr/>
        </p:nvSpPr>
        <p:spPr>
          <a:xfrm>
            <a:off x="228600" y="157104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ion of milk production (lactogenesis) is under control of anterior pituita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lactin (LT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e milk production is established about two days after delive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lactation is dependent on suckling which initia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k ejection ref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maintains prolactin se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ntinued suckling, lactation can go on for years, and during this time, the raised prolactin levels, to some extent, depress ovulation and fert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4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5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6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7" name="Rectangle 1"/>
          <p:cNvSpPr/>
          <p:nvPr/>
        </p:nvSpPr>
        <p:spPr>
          <a:xfrm>
            <a:off x="457200" y="160740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1- Estr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olifer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system and nip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increa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lood flow to breast. It is responsible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gmentation of areo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Progester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formation of mammary gl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i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2" name="Rectangle 2"/>
          <p:cNvGrpSpPr/>
          <p:nvPr/>
        </p:nvGrpSpPr>
        <p:grpSpPr>
          <a:xfrm>
            <a:off x="1481040" y="-36360"/>
            <a:ext cx="6340680" cy="1315800"/>
            <a:chOff x="1481040" y="-36360"/>
            <a:chExt cx="6340680" cy="1315800"/>
          </a:xfrm>
        </p:grpSpPr>
        <p:pic>
          <p:nvPicPr>
            <p:cNvPr id="5043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36360"/>
              <a:ext cx="63406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4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fine Fertilization and impl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umerate the placental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the hormones affecting mamm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the role of prolactin in la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 the caus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ynaecoma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scrib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echanism of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8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9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0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1" name="Rectangle 1"/>
          <p:cNvSpPr/>
          <p:nvPr/>
        </p:nvSpPr>
        <p:spPr>
          <a:xfrm>
            <a:off x="533520" y="16041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Prolact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reted by anterior pituitary and place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timulates formation and secretion of milk by ac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4- Placental Lact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breast develop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2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103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4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5" name="Rectangle 1"/>
          <p:cNvSpPr/>
          <p:nvPr/>
        </p:nvSpPr>
        <p:spPr>
          <a:xfrm>
            <a:off x="380880" y="1698480"/>
            <a:ext cx="8534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5- Oxytoc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queezes milk from acini (=milk ej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6- Adrenal corticoids, insulin &amp; Thyrox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ed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tabo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ctivities of the gland, no specific role in mil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7- Growth horm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cessary for mammary gland development in response to other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6" name="Rectangle 2"/>
          <p:cNvGrpSpPr/>
          <p:nvPr/>
        </p:nvGrpSpPr>
        <p:grpSpPr>
          <a:xfrm>
            <a:off x="1481040" y="-42840"/>
            <a:ext cx="6340680" cy="1311120"/>
            <a:chOff x="1481040" y="-42840"/>
            <a:chExt cx="6340680" cy="1311120"/>
          </a:xfrm>
        </p:grpSpPr>
        <p:pic>
          <p:nvPicPr>
            <p:cNvPr id="5107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42840"/>
              <a:ext cx="63406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8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Bookman Old Style"/>
                  <a:ea typeface="SimSun"/>
                </a:rPr>
                <a:t>GYNAECOMASTIA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9" name="Rectangle 1"/>
          <p:cNvSpPr/>
          <p:nvPr/>
        </p:nvSpPr>
        <p:spPr>
          <a:xfrm>
            <a:off x="152280" y="138780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minine enlargement of breast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t Puberty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(physiological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ys develop a tender subareolar plaque (1-2 cm) which shrinks slowly and never persists for more than few years (Unknown cau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Adult (pathological):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imary testic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Li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ronchogenic carcinom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docrine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0" name="Picture 1" descr="11146200_962857803745216_65688347974238369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1" name="Rectangle 1"/>
          <p:cNvSpPr/>
          <p:nvPr/>
        </p:nvSpPr>
        <p:spPr>
          <a:xfrm>
            <a:off x="228600" y="7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العلم نور</a:t>
            </a:r>
            <a:r>
              <a:rPr b="1" i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ونور الله لا يهدى لعاص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Fertiliz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rmal site of fertilization is the ampulla of oviduct at the upper  one third of ovi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ust occur within 24 hours after ov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iability of ovum is 24 h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rms usually survive about 48 hours but can survive up to 5 days in female reproductive 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perm deposited in vagina travel through cervical canal, uterus, and to upper one third of ovi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93A3-1FCD-48EB-ADCF-EB281E54928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9" name="Picture 2" descr="D:\my documents\SHERWOOD 7 LECTURES (2010)\Media\Image_Library\chapter20\20f25.jpg"/>
          <p:cNvPicPr/>
          <p:nvPr/>
        </p:nvPicPr>
        <p:blipFill>
          <a:blip r:embed="rId1"/>
          <a:srcRect l="0" t="0" r="0" b="3160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50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3F5-57F4-408B-9F80-8DFD08229C5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ertiliz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304560" y="-92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haroni"/>
                <a:ea typeface="Arial"/>
              </a:rPr>
              <a:t>Fertilization &amp; Implant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ertilized ovum (zygote) having 46 chromosomes divides mitotically. Within a week, zygote grows and differentiates into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lastocy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pable of implant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stocyst implants in the posterior  wall of uterus on 6-7 th day after ferti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stocyst has inner cell mass that becomes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mbry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nd outer cellular layer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ophoblast (= fetal portion of placenta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t site of implantation, Endometrium transforms in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ecidual layer (= maternal portion of placenta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782-FE9B-4A99-9E81-91343E57689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Early Stages of Development from Fertilization to Impla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9503-2279-47F0-81ED-FE2E53FC230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7" name="Picture 8" descr="20f26"/>
          <p:cNvPicPr/>
          <p:nvPr/>
        </p:nvPicPr>
        <p:blipFill>
          <a:blip r:embed="rId1"/>
          <a:stretch/>
        </p:blipFill>
        <p:spPr>
          <a:xfrm>
            <a:off x="228600" y="1359000"/>
            <a:ext cx="8686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FUNCTIONS OF PLACEN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"/>
          <p:cNvSpPr txBox="1"/>
          <p:nvPr/>
        </p:nvSpPr>
        <p:spPr>
          <a:xfrm>
            <a:off x="304920" y="12952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centa performs the functions of Digestive system, Respiratory system and Kidney for the fet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Nutrition and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 to fetus from maternal blood across the placental barr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s as transient, complex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d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gan that secretes essential pregnancy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Human chorionic gonadotropin (HC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Progeste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Human Chorionic Somatomammotrop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976-A286-41F6-9E3E-28D603207E0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"/>
          <p:cNvSpPr txBox="1"/>
          <p:nvPr/>
        </p:nvSpPr>
        <p:spPr>
          <a:xfrm>
            <a:off x="609480" y="1828440"/>
            <a:ext cx="7848720" cy="19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eorgia"/>
              </a:rPr>
              <a:t>Placental hormones</a:t>
            </a:r>
            <a:endParaRPr b="0" lang="en-US" sz="54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3" name="Rectangle 1"/>
          <p:cNvSpPr/>
          <p:nvPr/>
        </p:nvSpPr>
        <p:spPr>
          <a:xfrm>
            <a:off x="295200" y="1376640"/>
            <a:ext cx="830592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lacenta secretes hormones for maintaining pregnancy and preparing mother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bor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ahoma"/>
                <a:ea typeface="SimSun"/>
              </a:rPr>
              <a:t>1- Estrog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creted from Corpus Luteum at 1st trimester, After that Placenta secretes Estri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metri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uterine strength for partu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developmen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au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nlargem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female external genitalia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l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acroiliac joint and symphysis pubis ligaments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Hani Mohammed</cp:lastModifiedBy>
  <dcterms:modified xsi:type="dcterms:W3CDTF">2016-03-31T10:25:32Z</dcterms:modified>
  <cp:revision>97</cp:revision>
  <dc:subject/>
  <dc:title>Slide 1</dc:title>
</cp:coreProperties>
</file>